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22C48-3DF1-47BC-BAC5-3AAD455A5004}" type="datetime">
              <a:rPr b="0" lang="it-IT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67B1C-67BE-4AC7-8079-80DEE99B876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52499-D02E-4D93-85D1-B1BDE6CBDE3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BF860-49C6-48B1-A65A-76121088CDB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53E55-059C-4922-B54D-EE0D46EB9D7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C588C-2D04-43D6-8206-86F2BD3BB0E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B61FA-16C9-45D8-AC2B-4157297DACE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76B2F-0B88-45DD-8FF6-3C18A59FDA5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81F05-2289-4F2E-910F-21193433E73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AE0CF-B86F-4409-BF17-EC15A489E7E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66880" y="431928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04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10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52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668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10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52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66520" y="1390680"/>
            <a:ext cx="74581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04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374880"/>
            <a:ext cx="2495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>
            <a:off x="552600" y="6334200"/>
            <a:ext cx="859140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C:\Documents and Settings\14532ma\Desktop\LOGHI\PSR 2014 2020\logo PSR 20142020.jpg"/>
          <p:cNvPicPr/>
          <p:nvPr/>
        </p:nvPicPr>
        <p:blipFill>
          <a:blip r:embed="rId2"/>
          <a:stretch/>
        </p:blipFill>
        <p:spPr>
          <a:xfrm>
            <a:off x="39600" y="38160"/>
            <a:ext cx="1322640" cy="1593720"/>
          </a:xfrm>
          <a:prstGeom prst="rect">
            <a:avLst/>
          </a:prstGeom>
          <a:ln w="0">
            <a:noFill/>
          </a:ln>
        </p:spPr>
      </p:pic>
      <p:sp>
        <p:nvSpPr>
          <p:cNvPr id="6" name="Line 13"/>
          <p:cNvSpPr/>
          <p:nvPr/>
        </p:nvSpPr>
        <p:spPr>
          <a:xfrm flipV="1">
            <a:off x="561960" y="1679400"/>
            <a:ext cx="0" cy="46548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1143000" y="741240"/>
            <a:ext cx="800100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C:\Documents and Settings\14532ma\Desktop\LOGHI\ISTITUZIONALI\feasr.png"/>
          <p:cNvPicPr/>
          <p:nvPr/>
        </p:nvPicPr>
        <p:blipFill>
          <a:blip r:embed="rId3"/>
          <a:srcRect l="0" t="0" r="0" b="19413"/>
          <a:stretch/>
        </p:blipFill>
        <p:spPr>
          <a:xfrm>
            <a:off x="5845320" y="162000"/>
            <a:ext cx="882360" cy="4762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7" descr="C:\Documents and Settings\14532ma\Desktop\LOGHI\ISTITUZIONALI\regione_piemonte_bianco.jpg"/>
          <p:cNvPicPr/>
          <p:nvPr/>
        </p:nvPicPr>
        <p:blipFill>
          <a:blip r:embed="rId4"/>
          <a:stretch/>
        </p:blipFill>
        <p:spPr>
          <a:xfrm>
            <a:off x="6762600" y="171360"/>
            <a:ext cx="1257480" cy="4017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8" descr="C:\Documents and Settings\14532ma\Desktop\LOGHI\ISTITUZIONALI\logo_Mipaaf_PIC.jpg"/>
          <p:cNvPicPr/>
          <p:nvPr/>
        </p:nvPicPr>
        <p:blipFill>
          <a:blip r:embed="rId5"/>
          <a:srcRect l="8022" t="11796" r="17650" b="7622"/>
          <a:stretch/>
        </p:blipFill>
        <p:spPr>
          <a:xfrm>
            <a:off x="8147160" y="117360"/>
            <a:ext cx="666720" cy="5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sellaDiTesto 4"/>
          <p:cNvSpPr/>
          <p:nvPr/>
        </p:nvSpPr>
        <p:spPr>
          <a:xfrm>
            <a:off x="1324080" y="1638360"/>
            <a:ext cx="6391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500" spc="-1" strike="noStrike">
                <a:solidFill>
                  <a:srgbClr val="008000"/>
                </a:solidFill>
                <a:latin typeface="Arial"/>
              </a:rPr>
              <a:t>Criteri di selezion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500" spc="-1" strike="noStrike">
                <a:solidFill>
                  <a:srgbClr val="008000"/>
                </a:solidFill>
                <a:latin typeface="Arial"/>
              </a:rPr>
              <a:t>PSR 2014 – 202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 u="sng">
                <a:solidFill>
                  <a:srgbClr val="c0504d"/>
                </a:solidFill>
                <a:uFillTx/>
                <a:latin typeface="Arial"/>
                <a:ea typeface="Times New Roman"/>
              </a:rPr>
              <a:t>Variazioni conseguenti all</a:t>
            </a:r>
            <a:r>
              <a:rPr b="1" lang="it-IT" sz="1600" spc="-1" strike="noStrike" u="sng">
                <a:solidFill>
                  <a:srgbClr val="c0504d"/>
                </a:solidFill>
                <a:uFillTx/>
                <a:latin typeface="Arial"/>
                <a:ea typeface="Times New Roman"/>
              </a:rPr>
              <a:t>e proposte di modifica al PS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sellaDiTesto 7"/>
          <p:cNvSpPr/>
          <p:nvPr/>
        </p:nvSpPr>
        <p:spPr>
          <a:xfrm>
            <a:off x="752400" y="5057640"/>
            <a:ext cx="668664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600" spc="-1" strike="noStrike">
                <a:solidFill>
                  <a:srgbClr val="9f4f24"/>
                </a:solidFill>
                <a:latin typeface="Arial"/>
              </a:rPr>
              <a:t>Gualtiero Freiburger - Settore Programmazione e Coordinamento Sviluppo Rurale e Agricoltura Sosteni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4"/>
          <p:cNvSpPr/>
          <p:nvPr/>
        </p:nvSpPr>
        <p:spPr>
          <a:xfrm>
            <a:off x="1143000" y="1133640"/>
            <a:ext cx="749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Introduzione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sellaDiTesto 5"/>
          <p:cNvSpPr/>
          <p:nvPr/>
        </p:nvSpPr>
        <p:spPr>
          <a:xfrm>
            <a:off x="942840" y="1747800"/>
            <a:ext cx="779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e variazioni ai criteri di selezione inviate discendono sostanzialmente dalle proposte di modifica al PSR già illustrate, e in particol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all’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ntroduzione di nuove azion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misura 4.3.2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, progetti di ricomposizione fondiaria)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e operazion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7.2.1 e 7.4.1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, relative alle borgate montane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alle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modifiche apportate a operazioni già esistent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10.1.1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produzione integrata, introduzione del susino -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16.4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creazione di filiere corte e attività promozionali -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16.9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agricoltura social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sellaDiTesto 4"/>
          <p:cNvSpPr/>
          <p:nvPr/>
        </p:nvSpPr>
        <p:spPr>
          <a:xfrm>
            <a:off x="1143000" y="1133640"/>
            <a:ext cx="749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Introduzione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sellaDiTesto 5"/>
          <p:cNvSpPr/>
          <p:nvPr/>
        </p:nvSpPr>
        <p:spPr>
          <a:xfrm>
            <a:off x="942840" y="1747800"/>
            <a:ext cx="779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i precisa che, per alcune delle modifiche proposte (es. 4.2 agroindustria, 4.3.4 infrastrutture informatiche e 8.1 imboschimento) i relativi criteri di selezione verranno predisposti e presentati successivamente all’esito della proposta di modif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Resta inteso che l’approvazione dei criteri di selezione presentati è subordinata all’esito finale delle relative proposte di modif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assiamo quindi alla discussione dei criteri presenta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sellaDiTesto 4"/>
          <p:cNvSpPr/>
          <p:nvPr/>
        </p:nvSpPr>
        <p:spPr>
          <a:xfrm>
            <a:off x="1143000" y="1571760"/>
            <a:ext cx="749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Misura 4.3.2, Azione 2 - Interventi infrastrutturali e di miglioramento a servizio di progetti di ricomposizione fondi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sellaDiTesto 5"/>
          <p:cNvSpPr/>
          <p:nvPr/>
        </p:nvSpPr>
        <p:spPr>
          <a:xfrm>
            <a:off x="942840" y="2722680"/>
            <a:ext cx="779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dere modifica n. 10 – Inserimento azione 2 sulla ricomposizione fondi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sellaDiTesto 4"/>
          <p:cNvSpPr/>
          <p:nvPr/>
        </p:nvSpPr>
        <p:spPr>
          <a:xfrm>
            <a:off x="1143000" y="1133640"/>
            <a:ext cx="7493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Oper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7.2.1 Realizzazione e miglioramento delle opere di urbanizzazione e degli spazi aperti ad uso pubblico delle borgate mont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7.4.1 Realizzazione e miglioramento di strutture ed infrastrutture culturali-ricreative nelle borgate mont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sellaDiTesto 5"/>
          <p:cNvSpPr/>
          <p:nvPr/>
        </p:nvSpPr>
        <p:spPr>
          <a:xfrm>
            <a:off x="942840" y="3773520"/>
            <a:ext cx="779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dere modifica n. 16 - Inserimento di due nuove operazioni (7.2.1 e 7.4.1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sellaDiTesto 4"/>
          <p:cNvSpPr/>
          <p:nvPr/>
        </p:nvSpPr>
        <p:spPr>
          <a:xfrm>
            <a:off x="1143000" y="1133640"/>
            <a:ext cx="749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Misura 10, Operazione 10.1.1 (Produzione integr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sellaDiTesto 5"/>
          <p:cNvSpPr/>
          <p:nvPr/>
        </p:nvSpPr>
        <p:spPr>
          <a:xfrm>
            <a:off x="942840" y="2722680"/>
            <a:ext cx="779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dere modifica n. 20 – Integrazione del susino tra le colture sottoposte a lotta di confusione sessu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sellaDiTesto 4"/>
          <p:cNvSpPr/>
          <p:nvPr/>
        </p:nvSpPr>
        <p:spPr>
          <a:xfrm>
            <a:off x="1143000" y="1047600"/>
            <a:ext cx="7493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Oper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16.3.1 Organizzazione di processi di lavoro comuni e servizi di turismo ru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</a:rPr>
              <a:t>Azione 1 e Azion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</a:rPr>
              <a:t>16.4.1 Creazione di filiere corte, mercati locali e attività promoz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sellaDiTesto 5"/>
          <p:cNvSpPr/>
          <p:nvPr/>
        </p:nvSpPr>
        <p:spPr>
          <a:xfrm>
            <a:off x="942840" y="3579840"/>
            <a:ext cx="779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dere modifica n. 30, che riguarda soltanto l’operazione 16.4 (introduzione di nuovi principi relativi a innovazione e ambiente), mentre per l’operazione 16.3 il testo della misura non varia e vengono semplicemente inserite alcune precisazioni nei crite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sellaDiTesto 4"/>
          <p:cNvSpPr/>
          <p:nvPr/>
        </p:nvSpPr>
        <p:spPr>
          <a:xfrm>
            <a:off x="1143000" y="1133640"/>
            <a:ext cx="749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Misura 16.7 (attuazione di strategie di sviluppo locale diverse da Leader), Azione 1 (attuazione di strategie locali nell’ambito della strategia nazionale per le aree inter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sellaDiTesto 5"/>
          <p:cNvSpPr/>
          <p:nvPr/>
        </p:nvSpPr>
        <p:spPr>
          <a:xfrm>
            <a:off x="942840" y="2722680"/>
            <a:ext cx="779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dere modifica n. 31 – articolazione della misura in due distinte azioni, di cui la prima specificamente dedicata alle aree in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sellaDiTesto 4"/>
          <p:cNvSpPr/>
          <p:nvPr/>
        </p:nvSpPr>
        <p:spPr>
          <a:xfrm>
            <a:off x="1143000" y="1133640"/>
            <a:ext cx="749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Operazione 16.9.1 Progetti di agricoltura soc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sellaDiTesto 5"/>
          <p:cNvSpPr/>
          <p:nvPr/>
        </p:nvSpPr>
        <p:spPr>
          <a:xfrm>
            <a:off x="942840" y="2722680"/>
            <a:ext cx="779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dere modifica n. 32 – aggiornamento del testo della misura, inclusi i principi di selezione, ai sensi della legge 141/20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9:19:21Z</dcterms:created>
  <dc:creator>Sara Bigazzi</dc:creator>
  <dc:description/>
  <dc:language>en-US</dc:language>
  <cp:lastModifiedBy>Settore Sistemi Informativi</cp:lastModifiedBy>
  <dcterms:modified xsi:type="dcterms:W3CDTF">2016-10-26T08:40:53Z</dcterms:modified>
  <cp:revision>168</cp:revision>
  <dc:subject/>
  <dc:title>Diapositiva 1</dc:title>
</cp:coreProperties>
</file>