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7FEEB-41E1-4E39-8BAE-81BB888C252E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CF927-6F39-4892-9FC2-CF4874E3E1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BD32E-24B7-40F2-87FC-DEA59971DA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068A6-BCF9-4E52-8993-43FF07E4CE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CF15E-4E41-435E-B46B-4DE2064651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4973F-A2FD-403B-AC4D-952B985A54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FCC63-C054-410D-85AB-E0760463EB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7195E-135E-4E0D-B03B-4CB4F00494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F989E-14E9-411E-9F0C-1381AD4CC4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1A294-F7A4-47EB-AB7F-BC400B7B8E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92C8D-5086-4B28-B218-7125B94D1A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8DB66-03BB-4BD8-9DED-7DD04733FF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5A1E2-8C09-47AA-8F5E-39D2558BE0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668CD-8898-4E70-BC09-F0A134B321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:\Documents and Settings\14532ma\Desktop\LOGHI\PSR 2014 2020\logo PSR 20142020.jpg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C:\Documents and Settings\14532ma\Desktop\LOGHI\ISTITUZIONALI\feasr.png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C:\Documents and Settings\14532ma\Desktop\LOGHI\ISTITUZIONALI\regione_piemonte_bianco.jpg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C:\Documents and Settings\14532ma\Desktop\LOGHI\ISTITUZIONALI\logo_Mipaaf_PIC.jpg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1324080" y="1638360"/>
            <a:ext cx="70866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Stato di attuazione 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7"/>
          <p:cNvSpPr/>
          <p:nvPr/>
        </p:nvSpPr>
        <p:spPr>
          <a:xfrm>
            <a:off x="752400" y="5667480"/>
            <a:ext cx="6686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Gaudenzio De Paoli – Autorità di Gest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4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Pagamenti al 28 ottobre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5"/>
          <p:cNvSpPr/>
          <p:nvPr/>
        </p:nvSpPr>
        <p:spPr>
          <a:xfrm>
            <a:off x="942840" y="2084400"/>
            <a:ext cx="7794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otazione finanziaria PSR: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1.093 M€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(spesa pubblica) di cui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471,32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M€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di quota FEA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mporto pagato (28/10/2016):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30,7 M€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(spesa pubblica) di cui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13,5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408000"/>
                </a:solidFill>
                <a:latin typeface="Arial"/>
              </a:rPr>
              <a:t>M€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di quota FEA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Situazione N+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5"/>
          <p:cNvSpPr/>
          <p:nvPr/>
        </p:nvSpPr>
        <p:spPr>
          <a:xfrm>
            <a:off x="942840" y="1892160"/>
            <a:ext cx="7794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1f497d"/>
                </a:solidFill>
                <a:latin typeface="Arial"/>
              </a:rPr>
              <a:t>Rischio disimpegno al 31/12/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170 Meuro (spesa pubbl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i cui 73 Meuro di quota FEA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4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Riserva di efficacia dell’attu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63600" y="1855800"/>
          <a:ext cx="723888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855800"/>
                    <a:ext cx="723888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5"/>
          <p:cNvSpPr/>
          <p:nvPr/>
        </p:nvSpPr>
        <p:spPr>
          <a:xfrm>
            <a:off x="1895400" y="2093760"/>
            <a:ext cx="6058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000" spc="-1" strike="noStrike">
                <a:solidFill>
                  <a:srgbClr val="6699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Piemonte Direzion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so Stati Uniti 21 10128 To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psr@regione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1222200" y="162000"/>
            <a:ext cx="386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Bandi termin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1452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20760" y="979560"/>
          <a:ext cx="7796160" cy="51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79560"/>
                    <a:ext cx="7796160" cy="51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464600" y="2362320"/>
            <a:ext cx="0" cy="24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4"/>
          <p:cNvSpPr/>
          <p:nvPr/>
        </p:nvSpPr>
        <p:spPr>
          <a:xfrm>
            <a:off x="1222200" y="162000"/>
            <a:ext cx="386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Bandi termin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52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82680" y="992160"/>
            <a:ext cx="7629480" cy="5018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1560" y="1643040"/>
            <a:ext cx="0" cy="33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4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Alcuni risultati - Misure a invest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5"/>
          <p:cNvSpPr/>
          <p:nvPr/>
        </p:nvSpPr>
        <p:spPr>
          <a:xfrm>
            <a:off x="942840" y="1933560"/>
            <a:ext cx="779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entuale di copertura finanziaria delle richieste pervenute rispetto alla dotazione del b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.1.1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menti nelle aziende agricole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.1.2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menti per i giovani agricoltor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groindustria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.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ediamento giovani agricoltor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3800" y="304632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3560" y="449100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43560" y="523728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73800" y="376884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1143000" y="73656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Alcuni risultati - Misure a superfic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5"/>
          <p:cNvSpPr/>
          <p:nvPr/>
        </p:nvSpPr>
        <p:spPr>
          <a:xfrm>
            <a:off x="942840" y="1227240"/>
            <a:ext cx="77947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entuale di copertura finanziaria delle richieste pervenute rispetto alla dotazione del b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0.1.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produzione integrata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0.1.3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gricoltura conservativa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0.1.5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riduzione emission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0.1.9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gestione pascol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1.1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conversione agricoltura biologica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2.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indennità Natura 2000 foreste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8120" y="2282760"/>
            <a:ext cx="828360" cy="403200"/>
          </a:xfrm>
          <a:prstGeom prst="rightArrow">
            <a:avLst>
              <a:gd name="adj1" fmla="val 50000"/>
              <a:gd name="adj2" fmla="val 5136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307188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8120" y="3776760"/>
            <a:ext cx="828360" cy="403200"/>
          </a:xfrm>
          <a:prstGeom prst="rightArrow">
            <a:avLst>
              <a:gd name="adj1" fmla="val 50000"/>
              <a:gd name="adj2" fmla="val 5136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43560" y="453240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43560" y="525780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43560" y="5875200"/>
            <a:ext cx="828720" cy="403200"/>
          </a:xfrm>
          <a:prstGeom prst="rightArrow">
            <a:avLst>
              <a:gd name="adj1" fmla="val 50000"/>
              <a:gd name="adj2" fmla="val 513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4"/>
          <p:cNvSpPr/>
          <p:nvPr/>
        </p:nvSpPr>
        <p:spPr>
          <a:xfrm>
            <a:off x="1835280" y="1136520"/>
            <a:ext cx="566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Crono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76440" y="2928960"/>
          <a:ext cx="8267400" cy="10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2928960"/>
                    <a:ext cx="82674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4"/>
          <p:cNvSpPr/>
          <p:nvPr/>
        </p:nvSpPr>
        <p:spPr>
          <a:xfrm>
            <a:off x="1835280" y="1120680"/>
            <a:ext cx="566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Misura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0240" y="1779480"/>
            <a:ext cx="8356680" cy="373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1520" y="2879640"/>
            <a:ext cx="158760" cy="785880"/>
          </a:xfrm>
          <a:custGeom>
            <a:avLst/>
            <a:gdLst>
              <a:gd name="textAreaLeft" fmla="*/ 0 w 158760"/>
              <a:gd name="textAreaRight" fmla="*/ 57240 w 158760"/>
              <a:gd name="textAreaTop" fmla="*/ 20160 h 785880"/>
              <a:gd name="textAreaBottom" fmla="*/ 7657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5000" y="4152960"/>
            <a:ext cx="158760" cy="982440"/>
          </a:xfrm>
          <a:custGeom>
            <a:avLst/>
            <a:gdLst>
              <a:gd name="textAreaLeft" fmla="*/ 0 w 158760"/>
              <a:gd name="textAreaRight" fmla="*/ 57240 w 158760"/>
              <a:gd name="textAreaTop" fmla="*/ 25560 h 982440"/>
              <a:gd name="textAreaBottom" fmla="*/ 956880 h 9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43760" y="4632480"/>
            <a:ext cx="13500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78760" y="4632480"/>
            <a:ext cx="0" cy="75852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8760" y="5367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85000" y="5391000"/>
            <a:ext cx="29376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289320"/>
            <a:ext cx="13500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43840" y="2670120"/>
            <a:ext cx="0" cy="6192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862680" y="2670120"/>
            <a:ext cx="29376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4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Stato di attuazione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5"/>
          <p:cNvSpPr/>
          <p:nvPr/>
        </p:nvSpPr>
        <p:spPr>
          <a:xfrm>
            <a:off x="942840" y="1987560"/>
            <a:ext cx="779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 data 27 ottobre 2016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sono stati approvati i PSL (Programmi di sviluppo locale) di 14 GAL, per un importo complessivo pari a 64 M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. Comuni in GAL: 7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perficie interessata: 16.350 Km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polazione coinvolta: 973.000 abit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36600" y="192240"/>
          <a:ext cx="475956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92240"/>
                    <a:ext cx="475956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6-10-27T13:11:06Z</dcterms:modified>
  <cp:revision>314</cp:revision>
  <dc:subject/>
  <dc:title>Diapositiva 1</dc:title>
</cp:coreProperties>
</file>