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B8E70-CD84-4E60-AFFF-D9842703841A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4B100-F3F0-4A32-9157-9634BC45FA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8595B-B26F-4AEB-BE1C-54034756B6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B0AF9-8E80-43FA-8C50-A7DD3A4D770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11BDC-DE80-41C8-96F2-0449FCCA2EE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292A5-1762-4DC9-881D-E382A62D15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B081F-84AD-4964-9E55-F60A1CACB2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BB951-3F35-4820-BD2C-9813383FA5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E81EC-94B5-404B-96C5-C357F8EFDB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646AD-9E40-41ED-98D6-EB78116437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5A9AE-E22F-4906-880F-8BABB3DDE2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D6251-91E3-46B4-8C27-00B76E86B2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81FDA-6216-42FF-90AC-A40BBF0DD7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C1497-9374-4CB3-8C39-DDA9A9130C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CAB4A-5FE3-404B-8F1D-ACD59D35A9C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AA805-E9A7-4112-B905-BA0AF57394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65553-8442-467C-927A-D059B55B32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959A6-27AC-451D-A8DE-B001537DCA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3CC2C-D839-454D-8566-F87E370F6C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C5B61-52B8-4B4E-9AED-F5652633AF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AAD99-FB97-4D53-BAB8-40A3D76728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9DDB1-4BAE-42AA-A0D9-5E1DE4ECE4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AE3B7-BB84-46C3-A118-F8789395FE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2AE48-B32C-4EA4-AB44-CB37FBD62EF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52D21-1298-488A-8702-B7EA31E9AE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E57EA-1EB1-48C5-96D2-7B4588C838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D0E34-1407-476E-BC50-5EAB68380D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FEEB8-328F-44E4-A68C-2BFC43F90C5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36CC2-5718-4E0B-84D0-2A614E4871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1C3F3-E53A-4A03-A282-AA5D9994BB3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A9293-DFF9-4518-BE7D-AA978564C2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275FC-85C1-431B-AF72-9928C0A133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8261E-59EF-445B-8CEE-1029F24E73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E779E-A32B-4FC1-9079-F53B29BF6EA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02152-3A70-4A68-8B1F-EFDDE4D045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474A2-0EB0-401F-8B62-31CA6E6610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CB5FC-5E6C-4B28-92EE-5462DCC70C3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83324-96DE-4624-8AC1-097FE25B5B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D149E-2581-49B1-89CB-1FA32738EA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000E2-ACA1-40FE-BE09-3C837528A0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6DE71-EC95-427D-B525-5AF8FE6F75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84D8F-999D-47BC-9866-D07A9E81AE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C08CE-19CA-409B-90FB-7B4E431749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FDCAC-5F5B-48BD-90E6-A19025EA80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7047A-D214-4B6A-AC2F-6EF1221D39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CBB41-9274-415E-A533-9B3EE521D16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52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8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52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520" y="1390680"/>
            <a:ext cx="7458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374880"/>
            <a:ext cx="2495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552600" y="6334200"/>
            <a:ext cx="85914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C:\Documents and Settings\14532ma\Desktop\LOGHI\PSR 2014 2020\logo PSR 20142020.jpg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Line 13"/>
          <p:cNvSpPr/>
          <p:nvPr/>
        </p:nvSpPr>
        <p:spPr>
          <a:xfrm flipV="1">
            <a:off x="561960" y="1679400"/>
            <a:ext cx="0" cy="4654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1143000" y="741240"/>
            <a:ext cx="8001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C:\Documents and Settings\14532ma\Desktop\LOGHI\ISTITUZIONALI\feasr.png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C:\Documents and Settings\14532ma\Desktop\LOGHI\ISTITUZIONALI\regione_piemonte_bianco.jpg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C:\Documents and Settings\14532ma\Desktop\LOGHI\ISTITUZIONALI\logo_Mipaaf_PIC.jpg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4"/>
          <p:cNvSpPr/>
          <p:nvPr/>
        </p:nvSpPr>
        <p:spPr>
          <a:xfrm>
            <a:off x="1324080" y="1638360"/>
            <a:ext cx="70866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1" lang="it-IT" sz="4000" spc="-1" strike="noStrike" baseline="30000">
                <a:solidFill>
                  <a:srgbClr val="008000"/>
                </a:solidFill>
                <a:latin typeface="Arial"/>
              </a:rPr>
              <a:t>a</a:t>
            </a: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 Proposta di modific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PSR 2014 – 20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ase giurid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Arial"/>
                <a:ea typeface="Times New Roman"/>
              </a:rPr>
              <a:t> </a:t>
            </a:r>
            <a:r>
              <a:rPr b="1" lang="en-GB" sz="2000" spc="-1" strike="noStrike" u="sng">
                <a:solidFill>
                  <a:srgbClr val="c0504d"/>
                </a:solidFill>
                <a:uFillTx/>
                <a:latin typeface="Arial"/>
                <a:ea typeface="Times New Roman"/>
              </a:rPr>
              <a:t>A</a:t>
            </a:r>
            <a:r>
              <a:rPr b="1" lang="it-IT" sz="2000" spc="-1" strike="noStrike" u="sng">
                <a:solidFill>
                  <a:srgbClr val="c0504d"/>
                </a:solidFill>
                <a:uFillTx/>
                <a:latin typeface="Arial"/>
                <a:ea typeface="Times New Roman"/>
              </a:rPr>
              <a:t>rticolo 11, lettera b) del Regolamento (UE) n. 1305/2013</a:t>
            </a:r>
            <a:r>
              <a:rPr b="1" lang="it-IT" sz="35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sellaDiTesto 7"/>
          <p:cNvSpPr/>
          <p:nvPr/>
        </p:nvSpPr>
        <p:spPr>
          <a:xfrm>
            <a:off x="752400" y="5667480"/>
            <a:ext cx="6686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600" spc="-1" strike="noStrike">
                <a:solidFill>
                  <a:srgbClr val="9f4f24"/>
                </a:solidFill>
                <a:latin typeface="Arial"/>
              </a:rPr>
              <a:t>Franco Consogno – Settore Programmazione Sviluppo Ru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9: Modifiche alla Misura 4.3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frastrutture consortil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sellaDiTesto 5"/>
          <p:cNvSpPr/>
          <p:nvPr/>
        </p:nvSpPr>
        <p:spPr>
          <a:xfrm>
            <a:off x="942840" y="2700360"/>
            <a:ext cx="779472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recisazione, nella descrizione del tipo di intervento, della capacità dei bacini oggetto dell’ope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dicazione dell’ampliamento minimo, che dovrà essere di almeno 20.000 metri cubi e portare la capacità dell’invaso ad un valore compreso entro i limiti d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sellaDiTesto 4"/>
          <p:cNvSpPr/>
          <p:nvPr/>
        </p:nvSpPr>
        <p:spPr>
          <a:xfrm>
            <a:off x="1143000" y="1133640"/>
            <a:ext cx="7493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10: Modifiche alla misura 4.3.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strade e acquedotti rural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Inserimento Azione 2 (ricomposizione fondia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sellaDiTesto 5"/>
          <p:cNvSpPr/>
          <p:nvPr/>
        </p:nvSpPr>
        <p:spPr>
          <a:xfrm>
            <a:off x="942840" y="3338640"/>
            <a:ext cx="779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serimento, all’interno dell’Operazione 4.3.2, di una nuova Azione 2, finalizzata a interventi infrastrutturali e di miglioramento a servizio di progetti di ricomposizione fondi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4"/>
          <p:cNvSpPr/>
          <p:nvPr/>
        </p:nvSpPr>
        <p:spPr>
          <a:xfrm>
            <a:off x="1143000" y="1133640"/>
            <a:ext cx="749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11: Modifiche alla Misura 4.3.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(infrastrutture per l’accesso e la gestione delle risorse forestali e pastoral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serimento Azione 2 (investimenti in infrastrutture informatiche per il settore forest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5"/>
          <p:cNvSpPr/>
          <p:nvPr/>
        </p:nvSpPr>
        <p:spPr>
          <a:xfrm>
            <a:off x="942840" y="3191040"/>
            <a:ext cx="779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uddivisione dell’operazione in due azion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azione 1: infrastrutture per l’accesso e la gestion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corrispondente alla precedente operazione 4.3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azione 2: investimenti in infrastrutture informatiche per 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ttore forestale (di nuova introdu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sellaDiTesto 4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12: Modifiche alla Misura 5.1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prevenzione dei danni da calamità naturali di tipo biot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sellaDiTesto 5"/>
          <p:cNvSpPr/>
          <p:nvPr/>
        </p:nvSpPr>
        <p:spPr>
          <a:xfrm>
            <a:off x="942840" y="2678040"/>
            <a:ext cx="77947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mpliamento della platea di potenziali fruitori, attraverso la promozione dell’uso di reti anti-insetto per prevenire i danni causati da fitopatie non soltanto sul materiale di moltiplicazione ma sulle produzioni vegetali in gener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sellaDiTesto 4"/>
          <p:cNvSpPr/>
          <p:nvPr/>
        </p:nvSpPr>
        <p:spPr>
          <a:xfrm>
            <a:off x="1143000" y="1133640"/>
            <a:ext cx="7493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13: Modifiche alle Misure 5.1.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(prevenzione dei danni da calamità naturali di tipo abiotico) e 5.2.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(ripristino dei terreni agricoli e del potenziale produttivo danneggiati da calamità di tipo abiotic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sellaDiTesto 5"/>
          <p:cNvSpPr/>
          <p:nvPr/>
        </p:nvSpPr>
        <p:spPr>
          <a:xfrm>
            <a:off x="942840" y="2898720"/>
            <a:ext cx="779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liminazione dell’operazione 5.2.2 dal testo del PS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rasferimento della dotazione di 4 Meuro all’Operazione 5.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rticolazione dell’Operazione 5.1.2 nelle a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zione 1 - reti antigran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zione 2 - sistemazioni del terreno (muri di sostegno e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renaggi) limitata alla prevenzione delle f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sellaDiTesto 4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14: Modifiche alla Misura 6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sediamento giovani agricoltor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Produzione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sellaDiTesto 5"/>
          <p:cNvSpPr/>
          <p:nvPr/>
        </p:nvSpPr>
        <p:spPr>
          <a:xfrm>
            <a:off x="942840" y="2781360"/>
            <a:ext cx="7794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nalzamento della dimensione aziendale massima per poter beneficiare del premio a 250.000€ di produzione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sellaDiTesto 4"/>
          <p:cNvSpPr/>
          <p:nvPr/>
        </p:nvSpPr>
        <p:spPr>
          <a:xfrm>
            <a:off x="1143000" y="1133640"/>
            <a:ext cx="7493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15: Modifiche alla Misura 6.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vestimenti nella creazione e sviluppo di attività extra-agrico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Tipi di sosteg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sellaDiTesto 5"/>
          <p:cNvSpPr/>
          <p:nvPr/>
        </p:nvSpPr>
        <p:spPr>
          <a:xfrm>
            <a:off x="954000" y="3044880"/>
            <a:ext cx="7794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ggiunta, tra i tipi di sostegno, del bonifico sulle commissioni di garanzia rilasciate da terzi, ai sensi del Reg. (UE) n. 1303/2013 (articolo 69.3.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sellaDiTesto 4"/>
          <p:cNvSpPr/>
          <p:nvPr/>
        </p:nvSpPr>
        <p:spPr>
          <a:xfrm>
            <a:off x="1143000" y="113364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16: Modifiche alla Misura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(rinnovamento villag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serimento di due nuove operazioni (7.2.1 e 7.4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5"/>
          <p:cNvSpPr/>
          <p:nvPr/>
        </p:nvSpPr>
        <p:spPr>
          <a:xfrm>
            <a:off x="942840" y="2343240"/>
            <a:ext cx="77947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serimento di due nuove operazion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7.2.1 Realizzazione e miglioramento delle opere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rbanizzazione e degli spazi aperti ad uso pubblico de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orgate mont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[“riproposizione” Mis. 322, tipologi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 intervento n. 2&amp;3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tazione finanziaria: 8.800.000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7.4.1 Realizzazione e miglioramento di strutture 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rastrutture culturali-ricreative nelle borgate montan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[“riproposizione” Mis. 322, tipologia di intervento n. 1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tazione finanziaria: 8.800.000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17: Modifiche alla Misura 7.5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frastrutture turistiche ed informazione)</a:t>
            </a: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5"/>
          <p:cNvSpPr/>
          <p:nvPr/>
        </p:nvSpPr>
        <p:spPr>
          <a:xfrm>
            <a:off x="942840" y="2597040"/>
            <a:ext cx="779472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ggiunta, tra i costi ammissibili, del costo del personale impiegato nella tipologia d’intervento 2 (implementazione di sistemi informativ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costo del personale potrà essere rendicontato direttamente in forma analitica oppure forfettariamente, ai sensi dell’art. 68 del Reg. (UE)  1303/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18: Modifiche alla misura 7.6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miglioramento dei fabbricati di alpegg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sellaDiTesto 5"/>
          <p:cNvSpPr/>
          <p:nvPr/>
        </p:nvSpPr>
        <p:spPr>
          <a:xfrm>
            <a:off x="942840" y="2689200"/>
            <a:ext cx="7794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stensione del campo di applicazione alle strutture zootecniche diverse dai fabbricati di alpeggio localizzate nelle zone mont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1: Modifiche alla Misura 1.1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formazione agricola e forestale)</a:t>
            </a: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5"/>
          <p:cNvSpPr/>
          <p:nvPr/>
        </p:nvSpPr>
        <p:spPr>
          <a:xfrm>
            <a:off x="942840" y="2722680"/>
            <a:ext cx="779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stensione dell’utilizzo dei costi standard al settore         agricolo, oltre che a quello forest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19: Modifiche alla Misura 8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mboschimen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sellaDiTesto 5"/>
          <p:cNvSpPr/>
          <p:nvPr/>
        </p:nvSpPr>
        <p:spPr>
          <a:xfrm>
            <a:off x="942840" y="1924200"/>
            <a:ext cx="779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rticolazione della sottomisura in 3 azioni disti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rboricoltura da legno a ciclo breve (pioppicol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rboricoltura da legno a ciclo medio-lungo (arboricoltur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a legno e arboricoltura con specie tartufig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bos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serimento dei cost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ariazione regole di ammissibilità ed entità di contributo per la pioppico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ifica regole di ammissione per premi annui di mancato reddito per l’azion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20: Modifiche all’Operazione 10.1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produzione integrat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sellaDiTesto 5"/>
          <p:cNvSpPr/>
          <p:nvPr/>
        </p:nvSpPr>
        <p:spPr>
          <a:xfrm>
            <a:off x="942840" y="2678040"/>
            <a:ext cx="779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tegrazione delle colture (pero e susino) cui è applicabile l’impegno “lotta di confusione sessual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dozione di una demarcazione più netta nei confronti della OCM ortofrutticola, nelle condizioni di ammissibil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4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21: Modifiche all’Operazione 10.1.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terventi a favore della biodiversità nelle risai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5"/>
          <p:cNvSpPr/>
          <p:nvPr/>
        </p:nvSpPr>
        <p:spPr>
          <a:xfrm>
            <a:off x="942840" y="2620800"/>
            <a:ext cx="77947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utorizzazione alla variazione delle particelle (max 20% superficie ammissibile) oggetto di impegno nel corso del quinquennio, per non escludere dall'operazione le aziende risicole che attuano il metodo biologico o che comunque praticano l’avvicend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sellaDiTesto 4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22: Modifiche all’Operazione 10.1.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tecniche di agricoltura conserva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Azione 3 (apporto di matrici organich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sellaDiTesto 5"/>
          <p:cNvSpPr/>
          <p:nvPr/>
        </p:nvSpPr>
        <p:spPr>
          <a:xfrm>
            <a:off x="942840" y="274644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liminazione dell’Impegno 5 «Rispettare un periodo massimo di 40 giorni tra la fine del ciclo di una coltura e la semina della successiva» dall’Azion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sellaDiTesto 4"/>
          <p:cNvSpPr/>
          <p:nvPr/>
        </p:nvSpPr>
        <p:spPr>
          <a:xfrm>
            <a:off x="590400" y="1133640"/>
            <a:ext cx="846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23: Modifiche alle Operazioni 10.1.1 (produzione integrata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10.1.2 (biodiversità nelle risaie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10.1.3 (agricoltura conservativ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Impegno facoltativo «Erbai autunno-vernini da sovescio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sellaDiTesto 5"/>
          <p:cNvSpPr/>
          <p:nvPr/>
        </p:nvSpPr>
        <p:spPr>
          <a:xfrm>
            <a:off x="1006560" y="3243240"/>
            <a:ext cx="779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troduzione di una maggiore flessibilità nella composizione degli erbai (graminacee, leguminose, crucif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ariazione della superficie interessata (entro il 20%) da un anno all’altro in conseguenza della variazione delle particelle oggetto di impegno, in conformità all’art. 47(1) del regolamento (UE) n. 1305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sellaDiTesto 4"/>
          <p:cNvSpPr/>
          <p:nvPr/>
        </p:nvSpPr>
        <p:spPr>
          <a:xfrm>
            <a:off x="1000080" y="113364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24: Modifica all’Operazione 10.1.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(gestione di elementi naturaliformi dell’agroecosistem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Azione 1 (gestione di formazioni vegetali e aree um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sellaDiTesto 5"/>
          <p:cNvSpPr/>
          <p:nvPr/>
        </p:nvSpPr>
        <p:spPr>
          <a:xfrm>
            <a:off x="942840" y="329400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tensione dell’aiuto alle superfici sottoposte ad impegno relativamente alle misure 214.7/1 (PSR 2007-2013) e azioni F7 ed F4 (PSR 2000-2006) [nuove realizzazioni] i cui impegni sono scad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sellaDiTesto 4"/>
          <p:cNvSpPr/>
          <p:nvPr/>
        </p:nvSpPr>
        <p:spPr>
          <a:xfrm>
            <a:off x="1085760" y="1133640"/>
            <a:ext cx="780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25: Modifica all’Operazione 10.1.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(gestione di elementi naturaliformi dell’agroecosiste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Azione 3 (gestione di fasce inerbite ai margini dei camp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sellaDiTesto 5"/>
          <p:cNvSpPr/>
          <p:nvPr/>
        </p:nvSpPr>
        <p:spPr>
          <a:xfrm>
            <a:off x="942840" y="2425680"/>
            <a:ext cx="779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mmissione di superfici non aventi forma lineare per la conservazione della biodivers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mozione dell’obbligo di risemina annuale sulle superfici oggetto di imp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troduzione delle “fasce tampone” come tipologia in grado di associare efficacemente l'azione a  favore della biodiversità  con la funzione di contrasto al ruscel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sellaDiTesto 4"/>
          <p:cNvSpPr/>
          <p:nvPr/>
        </p:nvSpPr>
        <p:spPr>
          <a:xfrm>
            <a:off x="1143000" y="1133640"/>
            <a:ext cx="749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26: Modifiche alla Misura 10.1.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(difesa del bestiame dalla predazione da canidi sui pascoli collinari e montan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asellaDiTesto 5"/>
          <p:cNvSpPr/>
          <p:nvPr/>
        </p:nvSpPr>
        <p:spPr>
          <a:xfrm>
            <a:off x="942840" y="2825640"/>
            <a:ext cx="779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apporto cani da guardiania/capi di bestiame per la difesa dal lupo (1: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sellaDiTesto 4"/>
          <p:cNvSpPr/>
          <p:nvPr/>
        </p:nvSpPr>
        <p:spPr>
          <a:xfrm>
            <a:off x="1143000" y="1133640"/>
            <a:ext cx="74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27: Modifiche alla Misura 11.1.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8000"/>
                </a:solidFill>
                <a:latin typeface="Arial"/>
                <a:ea typeface="Times New Roman"/>
              </a:rPr>
              <a:t>(conversione agli impegni dell’agricoltura biolog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sellaDiTesto 5"/>
          <p:cNvSpPr/>
          <p:nvPr/>
        </p:nvSpPr>
        <p:spPr>
          <a:xfrm>
            <a:off x="942840" y="2700360"/>
            <a:ext cx="779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tensione della durata dell’operazione da 3 a 5 anni, per consentire l’esecuzione degli impegni di conversione al biologico per 5 anni senza il ricorso obbligato ad un secondo periodo di attuazione ai sensi della sottomisura 11.2.1 (Mantenimento dell’agricoltura biologica) per raggiungere complessivamente 5 anni di imp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28: Modifiche alla Misura 1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dennità compensativa)</a:t>
            </a: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sellaDiTesto 5"/>
          <p:cNvSpPr/>
          <p:nvPr/>
        </p:nvSpPr>
        <p:spPr>
          <a:xfrm>
            <a:off x="942840" y="3271680"/>
            <a:ext cx="779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ventuale riduzione percentuale dei premi, qualora l'ammontare totale richiesto sia superiore alle risorse finanziarie annualmente stanz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2: Modifiche alla Misura 1.1.1 az. 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formazione forestale)</a:t>
            </a: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5"/>
          <p:cNvSpPr/>
          <p:nvPr/>
        </p:nvSpPr>
        <p:spPr>
          <a:xfrm>
            <a:off x="965160" y="2711520"/>
            <a:ext cx="7794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clusione dei tecnici pubblici e privati purché operanti in campo forestale, come destinatari della form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sellaDiTesto 4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29: Modifiche alla Misura 16.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progetti pilota e sviluppo di nuovi prodotti, pratiche, processi e tecnolog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sellaDiTesto 5"/>
          <p:cNvSpPr/>
          <p:nvPr/>
        </p:nvSpPr>
        <p:spPr>
          <a:xfrm>
            <a:off x="942840" y="3352680"/>
            <a:ext cx="77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serimento degli organismi di ricerca tra i benefici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4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0: Modifiche alla Misura 16.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creazione di filiere corte, mercati locali e attività promozional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5"/>
          <p:cNvSpPr/>
          <p:nvPr/>
        </p:nvSpPr>
        <p:spPr>
          <a:xfrm>
            <a:off x="942840" y="310032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serimento di principi concernenti la fissazione di criteri di selezione che favoriscano una migliore analisi del contributo dell’operazione ai principi trasversali innovazione e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3: Modifiche al Capitolo 8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serimento aree inter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sellaDiTesto 5"/>
          <p:cNvSpPr/>
          <p:nvPr/>
        </p:nvSpPr>
        <p:spPr>
          <a:xfrm>
            <a:off x="942840" y="2152800"/>
            <a:ext cx="779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ecificazione delle modalità di intervento del PSR nell’ambito della strategia nazionale per le aree inter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lezione di un menu di misure di intervento applicabili nelle aree interne, come indicato nelle Linee guida del Mipaaf per la strategia nazionale delle aree inter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visione della possibilità di prevedere una riserva finanziaria che verrà quantificata, nei bandi e per ciascun tipo di operazione rientrante nelle misure di cui sopra , in funzione dei maggiori fabbisogni di intervento che caratterizzano le aree interne del Piem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sellaDiTesto 4"/>
          <p:cNvSpPr/>
          <p:nvPr/>
        </p:nvSpPr>
        <p:spPr>
          <a:xfrm>
            <a:off x="1143000" y="113364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31: Modifiche alla misura 16.7 (attuazione di strategie di sviluppo locale diverse da Lead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serimento nuova Azione 1 (aree interne)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sellaDiTesto 5"/>
          <p:cNvSpPr/>
          <p:nvPr/>
        </p:nvSpPr>
        <p:spPr>
          <a:xfrm>
            <a:off x="942840" y="2620800"/>
            <a:ext cx="779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rticolazione dell’operazione 16.7.1 in due azion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- azione 1) attuazione di strategie locali nell’ambito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ella strategia nazionale per le aree inter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- azione 2) attuazione di strategie locali in ambito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forest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2: Modifiche alla Misura 16.9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agricoltura socia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5"/>
          <p:cNvSpPr/>
          <p:nvPr/>
        </p:nvSpPr>
        <p:spPr>
          <a:xfrm>
            <a:off x="942840" y="3260880"/>
            <a:ext cx="779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ggiornamento complessivo della misura ai sensi della L. 141/2015 «Disposizioni in materia di agricoltura sociale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4: Modifiche al Capitolo 1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demarcazione OCM vi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5"/>
          <p:cNvSpPr/>
          <p:nvPr/>
        </p:nvSpPr>
        <p:spPr>
          <a:xfrm>
            <a:off x="942840" y="2825640"/>
            <a:ext cx="7794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Finanziabilità sul PSR dei nuovi impianti viticoli autorizzati ai sensi del Reg. (UE) 1308/2013 [no reimpiant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5: Modifiche al Capitolo 1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demarcazione OCM ortofrut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llaDiTesto 5"/>
          <p:cNvSpPr/>
          <p:nvPr/>
        </p:nvSpPr>
        <p:spPr>
          <a:xfrm>
            <a:off x="942840" y="2689200"/>
            <a:ext cx="779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ssibilità di accesso ai finanziamenti del PSR per le imprese agricole localizzate nella fascia montana e alto-collinare, facenti parte del settore della castanicoltura da frutto (analogamente a quanto già previsto per il settore corilicolo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sellaDiTesto 4"/>
          <p:cNvSpPr/>
          <p:nvPr/>
        </p:nvSpPr>
        <p:spPr>
          <a:xfrm>
            <a:off x="1143000" y="84780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6: Modifiche al Capitolo 1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demarcazione con il FES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sellaDiTesto 5"/>
          <p:cNvSpPr/>
          <p:nvPr/>
        </p:nvSpPr>
        <p:spPr>
          <a:xfrm>
            <a:off x="942840" y="2028960"/>
            <a:ext cx="779472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deguamento del testo all’accordo quadro Stato-Regioni in tema di banda ultralarga (11 febbraio 2016) e agli atti susseguenti (“Accordo di programma quadro tra Mise e Regione” e “Convenzione operativa tra il Mise e la Regione Piemonte per lo sviluppo della banda ultralarga nel territorio della Regione Piemonte finanziato dalla misura 7.3 del PSR” siglata il 29 luglio 20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deguamento del testo a quanto previsto nel paragrafo “Beneficiari” della Misura 4.2 (PMI e grandi imprese) e rimando alle norme di cui all’art. 44 del Reg. (UE)  n. 702/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7: Modifiche al Capitolo 1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Comitato di sorveglianz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sellaDiTesto 5"/>
          <p:cNvSpPr/>
          <p:nvPr/>
        </p:nvSpPr>
        <p:spPr>
          <a:xfrm>
            <a:off x="942840" y="2365200"/>
            <a:ext cx="77947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serimento, tra i componenti del Comitato, delle seguenti categor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- un rappresentante delle associazioni Rom e Sint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- un rappresentante delle associazioni bancari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- un rappresentante dell’Associazione nazionale delle Città del B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8: Modifiche al Capitolo 18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costi stand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sellaDiTesto 5"/>
          <p:cNvSpPr/>
          <p:nvPr/>
        </p:nvSpPr>
        <p:spPr>
          <a:xfrm>
            <a:off x="942840" y="2620800"/>
            <a:ext cx="779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tegrazione del Capitolo a seguito dell’introduzione dei costi standard per l’Operazione 1.1.1, azione 1 (formazione agricola) e per la Misura 8.1 (imboschimen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sellaDiTesto 4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: Modifiche alla Misura 4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vestimenti nelle aziende agrico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Tipi di sostegno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942840" y="2735280"/>
            <a:ext cx="7794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ggiunta, tra i tipi di sostegno, del bonifico sulle commissioni di garanzia rilasciate da terzi, ai sensi del Reg. (UE) n. 1303/2013 (articolo 69.3.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39: Modifiche al Capitolo 19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disposizioni transitor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sellaDiTesto 5"/>
          <p:cNvSpPr/>
          <p:nvPr/>
        </p:nvSpPr>
        <p:spPr>
          <a:xfrm>
            <a:off x="942840" y="2887560"/>
            <a:ext cx="7794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ggiornamento degli importi dei trascinamenti riportati nella tabella 19.2 “Tabella di riporto indicativa”, alla luce dei dati di chiusura del PSR 2007-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40: Modifiche alla tabella finanziaria del PSR - Capitol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sellaDiTesto 5"/>
          <p:cNvSpPr/>
          <p:nvPr/>
        </p:nvSpPr>
        <p:spPr>
          <a:xfrm>
            <a:off x="942840" y="2562120"/>
            <a:ext cx="779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Riduzione dei trascinamenti della Misura 15 (ex misura 225 PSR 2007-2013) a favore della Misura 8.5 (investimenti per gli ecosistemi forestali), per un importo pari a 2,6 Meuro di spesa pubbl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serimento nuova Misura 14, costituita dai soli trascinamenti della misura 215 (benessere animale) PSR 2007-2013, con dotazione pari a 260.000 euro di spesa pubbl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sellaDiTesto 4"/>
          <p:cNvSpPr/>
          <p:nvPr/>
        </p:nvSpPr>
        <p:spPr>
          <a:xfrm>
            <a:off x="1324080" y="1638360"/>
            <a:ext cx="70866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Correzione refusi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PSR 2014 – 20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ase giurid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Arial"/>
                <a:ea typeface="Times New Roman"/>
              </a:rPr>
              <a:t> </a:t>
            </a:r>
            <a:r>
              <a:rPr b="1" lang="en-GB" sz="2000" spc="-1" strike="noStrike" u="sng">
                <a:solidFill>
                  <a:srgbClr val="c0504d"/>
                </a:solidFill>
                <a:uFillTx/>
                <a:latin typeface="Arial"/>
                <a:ea typeface="Times New Roman"/>
              </a:rPr>
              <a:t>A</a:t>
            </a:r>
            <a:r>
              <a:rPr b="1" lang="it-IT" sz="2000" spc="-1" strike="noStrike" u="sng">
                <a:solidFill>
                  <a:srgbClr val="c0504d"/>
                </a:solidFill>
                <a:uFillTx/>
                <a:latin typeface="Arial"/>
                <a:ea typeface="Times New Roman"/>
              </a:rPr>
              <a:t>rticolo 11, lettera c) del Regolamento (UE) n. 1305/2013</a:t>
            </a:r>
            <a:r>
              <a:rPr b="1" lang="it-IT" sz="35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sellaDiTesto 4"/>
          <p:cNvSpPr/>
          <p:nvPr/>
        </p:nvSpPr>
        <p:spPr>
          <a:xfrm>
            <a:off x="1143000" y="8380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Elenco refusi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asellaDiTesto 5"/>
          <p:cNvSpPr/>
          <p:nvPr/>
        </p:nvSpPr>
        <p:spPr>
          <a:xfrm>
            <a:off x="942840" y="1263600"/>
            <a:ext cx="77947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: Misura 3.2 (informazione e promozione) - inserimento riferimento n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: Misura 4.2 (agroindustria) - precisazioni relative alla normativa applicat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: Misure 4.3.4 (infrastrutture per l’accesso e la gestione delle risorse forestali e pastorali) e 8.6.1 (incremento del potenziale economico delle foreste) - sostituzione Allegato metodologia costi standard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: Misura  4.4.2 (difesa del bestiame dalla predazione da canidi nei pascoli) - correzione titolo operazione 10.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: Misura 4.4.2 (difesa del bestiame dalla predazione da canidi nei pascoli) - correzione della focus area di rifer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sellaDiTesto 4"/>
          <p:cNvSpPr/>
          <p:nvPr/>
        </p:nvSpPr>
        <p:spPr>
          <a:xfrm>
            <a:off x="1143000" y="8380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Elenco refusi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asellaDiTesto 5"/>
          <p:cNvSpPr/>
          <p:nvPr/>
        </p:nvSpPr>
        <p:spPr>
          <a:xfrm>
            <a:off x="942840" y="1549440"/>
            <a:ext cx="779472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: Misura 6.1 (insediamento giovani agricoltori) - precisazione decorrenza limite di et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(41 a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: Operazione 10.1.4 (sistemi colturali ecocompatibili) e tabella cumulabilità impeg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Misura 10 - correzione refu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: Misura 13 (indennità per zone montane) – sostituzione Allegato classificazione dei fogli catastali monta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: Misura 19.1 (sostegno preparatorio Leader) - precisazione ammissibilità delle spe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: Misure varie - correzione diciture relative al punteggio minimo di ammissibil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9640" y="2117880"/>
            <a:ext cx="600696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669900"/>
                </a:solidFill>
                <a:latin typeface="Arial"/>
              </a:rPr>
              <a:t>Grazie per l’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gione Piemonte Direzione Agrico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rso Stati Uniti 21 10128 To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psr@regione.piemonte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4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4: Modifiche alla Misura 4.1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vestimenti nelle aziende agrico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o massimo degli investimenti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5"/>
          <p:cNvSpPr/>
          <p:nvPr/>
        </p:nvSpPr>
        <p:spPr>
          <a:xfrm>
            <a:off x="942840" y="2471760"/>
            <a:ext cx="779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terminazione dell’importo massimo di sostegno erogabile a ciascun beneficiario, pari a 5 volte la produzione standard dell’azienda medesima, con un massimo di 130.000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caso di aziende delle Aree C2 e D l’importo sale a 150.000 in considerazione della diversa percentuale di contributo sulla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caso di investimenti collettivi vale il numero delle aziende aderenti, conteggiando un massimo di 4 azi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5: Modifiche alla Misura 4.1.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vestimenti nelle aziende agrico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Produzione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942840" y="2689200"/>
            <a:ext cx="7794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nalzamento a 250.000 euro della soglia massima di produzione standard per l’attribuzione di punteggi di prior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4"/>
          <p:cNvSpPr/>
          <p:nvPr/>
        </p:nvSpPr>
        <p:spPr>
          <a:xfrm>
            <a:off x="1143000" y="1133640"/>
            <a:ext cx="7493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6: Modifiche alla Misura 4.1.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vestimenti nelle aziende agricole dei giovani agricoltor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o massimo degli investimen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5"/>
          <p:cNvSpPr/>
          <p:nvPr/>
        </p:nvSpPr>
        <p:spPr>
          <a:xfrm>
            <a:off x="942840" y="2624040"/>
            <a:ext cx="779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terminazione dell’importo massimo di sostegno erogabile a ciascun beneficiario, pari a 5 volte la produzione standard dell’azienda medesima, con un massimo di 130.000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caso di aziende delle Aree C2 e D l’importo sale a 150.000 in considerazione della diversa percentuale di contributo sulla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caso di investimenti collettivi vale il numero delle aziende aderenti, conteggiando un massimo di 4 azi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4"/>
          <p:cNvSpPr/>
          <p:nvPr/>
        </p:nvSpPr>
        <p:spPr>
          <a:xfrm>
            <a:off x="1143000" y="1133640"/>
            <a:ext cx="7493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7: Modifiche alla Misura 4.1.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investimenti nelle aziende agricole dei giovani agricoltor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Produzione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5"/>
          <p:cNvSpPr/>
          <p:nvPr/>
        </p:nvSpPr>
        <p:spPr>
          <a:xfrm>
            <a:off x="942840" y="2746440"/>
            <a:ext cx="7794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nalzamento a 250.000 euro della soglia massima di produzione standard per l’attribuzione di punteggi di prior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4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8: Modifiche alla Misura 4.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(agroindustria)</a:t>
            </a: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5"/>
          <p:cNvSpPr/>
          <p:nvPr/>
        </p:nvSpPr>
        <p:spPr>
          <a:xfrm>
            <a:off x="942840" y="2232000"/>
            <a:ext cx="779472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ggiunta, tra i tipi di sostegno, del bonifico sulle commissioni di garanzia rilasciate da terzi, ai sensi del Reg. (UE) n. 1303/2013 (articolo 69.3.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ggiornamento dei principi di selezione: durata dei contratti di fornitura, quantità di materia prima contrattualizzata, coinvolgimento produttori primari, innovatività degli investim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>Settore Sistemi Informativi</cp:lastModifiedBy>
  <dcterms:modified xsi:type="dcterms:W3CDTF">2016-11-10T12:52:15Z</dcterms:modified>
  <cp:revision>231</cp:revision>
  <dc:subject/>
  <dc:title>Diapositiva 1</dc:title>
</cp:coreProperties>
</file>