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0396A-DF9A-4F09-976F-32AA99BC1152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7633D-70D7-4D40-A45C-F2BFB3AF1F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B36A4-B4A3-46B8-A1F8-B8F17200B7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2A17D-EF95-4D00-A4C0-30C5D9E7FC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93258-C7D4-426D-A0ED-57CEDA0275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B552D-4BD1-4B5B-8576-B16ADC993C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E1FF5-637B-4A18-8D13-7BFA472D25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AF7EB-8EEF-4221-A048-B636707383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25460-1990-45BD-B6F1-B43936EBCC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25307-44B7-4DEB-AD13-74CFE8D78F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09BA5-D042-4545-AE77-BBA01963A1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BE53C-DC11-46D1-B731-63F6956B38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253BD-5876-4B18-A456-A16A012C64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A0EA5-B9A1-4936-9461-0DEA401EA5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C78AD-A285-4710-8054-20690F54EF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71E5C-0ADC-40F8-9373-74B723404F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11984-43C6-4C73-BBF5-8C30524CF6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9C29B-599E-45AA-B244-EF23DD4E2F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D5A6F-98CD-4B10-AB67-657751FAC6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08E70-1EC3-4DF9-8039-9F3B9D31F6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82E91-FBEC-4A64-B849-DC87AE3D8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4636C-AC86-49E5-A6CF-7E3586656D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4521-A206-45C8-985C-EDC0EAB608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501D4-740B-4C73-8091-2629632C17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1A241-57BF-472D-9CAE-2610B60AA3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6B615-E6ED-4878-AFBA-F0B69DEA50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32624-B44C-466E-9F30-C7E41ECAED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5209E-1123-4887-9413-1E93EC2FBB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3F551-7D66-4E06-8DBA-CB736B7F7C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59D60-834F-4D9F-BC9B-F980F80079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B58AB-1985-49DC-AEF2-F9B26E5BB8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B798E-CBD6-464B-8697-9E0F1CA48F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:\Documents and Settings\14532ma\Desktop\LOGHI\PSR 2014 2020\logo PSR 20142020.jpg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C:\Documents and Settings\14532ma\Desktop\LOGHI\ISTITUZIONALI\feasr.png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C:\Documents and Settings\14532ma\Desktop\LOGHI\ISTITUZIONALI\regione_piemonte_bianco.jpg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C:\Documents and Settings\14532ma\Desktop\LOGHI\ISTITUZIONALI\logo_Mipaaf_PIC.jpg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1438200" y="2571840"/>
            <a:ext cx="639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Principali evidenze del processo di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valutazione ex po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7"/>
          <p:cNvSpPr/>
          <p:nvPr/>
        </p:nvSpPr>
        <p:spPr>
          <a:xfrm>
            <a:off x="1257480" y="4581360"/>
            <a:ext cx="66862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</a:rPr>
              <a:t>Nicoletta Alliani, Ilaria Borri, Patrizia Borsot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</a:rPr>
              <a:t>Roberto Cagliero, Alessandra Malfi, Nicoletta Tor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1143000" y="89208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Aspetti di implement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8840" y="1446120"/>
            <a:ext cx="5638680" cy="4792680"/>
          </a:xfrm>
          <a:prstGeom prst="rect">
            <a:avLst/>
          </a:prstGeom>
          <a:ln w="0">
            <a:noFill/>
          </a:ln>
        </p:spPr>
      </p:pic>
      <p:sp>
        <p:nvSpPr>
          <p:cNvPr id="106" name="CasellaDiTesto 5"/>
          <p:cNvSpPr/>
          <p:nvPr/>
        </p:nvSpPr>
        <p:spPr>
          <a:xfrm>
            <a:off x="7172280" y="1879560"/>
            <a:ext cx="187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anzamento spesa e disimpegno FEAS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i RRN 12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720720" y="2886120"/>
            <a:ext cx="3878280" cy="252108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5"/>
          <p:cNvSpPr/>
          <p:nvPr/>
        </p:nvSpPr>
        <p:spPr>
          <a:xfrm>
            <a:off x="674640" y="1879560"/>
            <a:ext cx="779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SR Piemonte: oltre 24.000 benefic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i amministr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743360" y="2489040"/>
            <a:ext cx="43308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sellaDiTesto 5"/>
          <p:cNvSpPr/>
          <p:nvPr/>
        </p:nvSpPr>
        <p:spPr>
          <a:xfrm>
            <a:off x="698400" y="1681200"/>
            <a:ext cx="838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ianto programmatico: troppo complesso, focalizzare la strategia su fabbisogni princi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azione integrata: non utilizzata, occasione man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formance fisiche e finanziare: buone perfo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petti procedurali: criticità (scorrimenti, correzion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pacità di selezione: non sempre adeguata (omogeneità, complessità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petti organizzativi: critic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6"/>
          <p:cNvSpPr/>
          <p:nvPr/>
        </p:nvSpPr>
        <p:spPr>
          <a:xfrm>
            <a:off x="800280" y="843120"/>
            <a:ext cx="77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iscussione 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Dimensioni socio-econom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sellaDiTesto 5"/>
          <p:cNvSpPr/>
          <p:nvPr/>
        </p:nvSpPr>
        <p:spPr>
          <a:xfrm>
            <a:off x="776160" y="17208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mpetitività. Va e occupazione Re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776160" y="2336760"/>
            <a:ext cx="4294440" cy="3395880"/>
          </a:xfrm>
          <a:prstGeom prst="rect">
            <a:avLst/>
          </a:prstGeom>
          <a:ln w="0">
            <a:noFill/>
          </a:ln>
        </p:spPr>
      </p:pic>
      <p:sp>
        <p:nvSpPr>
          <p:cNvPr id="121" name="CasellaDiTesto 5"/>
          <p:cNvSpPr/>
          <p:nvPr/>
        </p:nvSpPr>
        <p:spPr>
          <a:xfrm>
            <a:off x="843120" y="5843520"/>
            <a:ext cx="20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lutazion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5"/>
          <p:cNvSpPr/>
          <p:nvPr/>
        </p:nvSpPr>
        <p:spPr>
          <a:xfrm>
            <a:off x="5162400" y="2562120"/>
            <a:ext cx="369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ultati  positivi e mitigazione degli effetti della grave crisi econo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cremento VA^^: circa 560 m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cremento VA PSR su benficiari (R2+R7): circa 165 meu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5"/>
          <p:cNvSpPr/>
          <p:nvPr/>
        </p:nvSpPr>
        <p:spPr>
          <a:xfrm>
            <a:off x="790560" y="15588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mpetitività. Settore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5"/>
          <p:cNvSpPr/>
          <p:nvPr/>
        </p:nvSpPr>
        <p:spPr>
          <a:xfrm>
            <a:off x="5391000" y="2629080"/>
            <a:ext cx="376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rget R2 : 163,5 vs 16 m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112: 28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121: 30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scita VA agri: Istat 162 Meuro vs R2 120 Meuro e meglio delle s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635040" y="2430360"/>
            <a:ext cx="46893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58760" y="1976400"/>
          <a:ext cx="6900840" cy="2049480"/>
        </p:xfrm>
        <a:graphic>
          <a:graphicData uri="http://schemas.openxmlformats.org/drawingml/2006/table">
            <a:tbl>
              <a:tblPr/>
              <a:tblGrid>
                <a:gridCol w="473040"/>
                <a:gridCol w="852480"/>
                <a:gridCol w="990720"/>
                <a:gridCol w="824040"/>
                <a:gridCol w="1157040"/>
                <a:gridCol w="1273320"/>
                <a:gridCol w="1330200"/>
              </a:tblGrid>
              <a:tr h="484200"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o 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 contrib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ande campione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. Contrib campione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idenza RICA Dom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idenza RICA Val.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43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6,8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11,0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0,5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48,1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98,3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17,4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20,8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32,7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597,1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28,8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CasellaDiTesto 11"/>
          <p:cNvSpPr/>
          <p:nvPr/>
        </p:nvSpPr>
        <p:spPr>
          <a:xfrm>
            <a:off x="876240" y="1576440"/>
            <a:ext cx="78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i di monitoraggio; Rilevazione RICA 2008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11"/>
          <p:cNvSpPr/>
          <p:nvPr/>
        </p:nvSpPr>
        <p:spPr>
          <a:xfrm>
            <a:off x="876240" y="4138560"/>
            <a:ext cx="786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e: beneficiari con saldo nel 2011 e 2012 (T=1); imprese RICA che non hanno ricevuto contributi 121 nel 2011/2012 (T=0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riabile risultato:                                           ; n= anno sal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odologia: DiD, usando il propensity score matching (probit) e controllando per: VA iniziale, conduzione, bio, allevamenti, altimetria, prov, OTE, dim. econom. Sono state usate diverse tecniche di abbinamento statis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87" descr=""/>
          <p:cNvPicPr/>
          <p:nvPr/>
        </p:nvPicPr>
        <p:blipFill>
          <a:blip r:embed="rId1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89" descr=""/>
          <p:cNvPicPr/>
          <p:nvPr/>
        </p:nvPicPr>
        <p:blipFill>
          <a:blip r:embed="rId2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91" descr=""/>
          <p:cNvPicPr/>
          <p:nvPr/>
        </p:nvPicPr>
        <p:blipFill>
          <a:blip r:embed="rId3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4"/>
          <a:stretch/>
        </p:blipFill>
        <p:spPr>
          <a:xfrm>
            <a:off x="3098880" y="4808520"/>
            <a:ext cx="2759040" cy="266760"/>
          </a:xfrm>
          <a:prstGeom prst="rect">
            <a:avLst/>
          </a:prstGeom>
          <a:ln w="0">
            <a:noFill/>
          </a:ln>
        </p:spPr>
      </p:pic>
      <p:sp>
        <p:nvSpPr>
          <p:cNvPr id="140" name="CasellaDiTesto 5"/>
          <p:cNvSpPr/>
          <p:nvPr/>
        </p:nvSpPr>
        <p:spPr>
          <a:xfrm>
            <a:off x="828720" y="116532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mpetitività. Misura 12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11"/>
          <p:cNvSpPr/>
          <p:nvPr/>
        </p:nvSpPr>
        <p:spPr>
          <a:xfrm>
            <a:off x="876240" y="1681200"/>
            <a:ext cx="786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umero di beneficiari 121 presenti in RICA è di sole 79 osservazioni (e 1635 non beneficiari)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umero limitato di osservazioni, e variabilità,  non permette di ottenere delle stime robu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tchting es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87" descr=""/>
          <p:cNvPicPr/>
          <p:nvPr/>
        </p:nvPicPr>
        <p:blipFill>
          <a:blip r:embed="rId1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89" descr=""/>
          <p:cNvPicPr/>
          <p:nvPr/>
        </p:nvPicPr>
        <p:blipFill>
          <a:blip r:embed="rId2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91" descr=""/>
          <p:cNvPicPr/>
          <p:nvPr/>
        </p:nvPicPr>
        <p:blipFill>
          <a:blip r:embed="rId3"/>
          <a:stretch/>
        </p:blipFill>
        <p:spPr>
          <a:xfrm>
            <a:off x="0" y="0"/>
            <a:ext cx="2759040" cy="1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879480" y="3522600"/>
          <a:ext cx="7110360" cy="2000160"/>
        </p:xfrm>
        <a:graphic>
          <a:graphicData uri="http://schemas.openxmlformats.org/drawingml/2006/table">
            <a:tbl>
              <a:tblPr/>
              <a:tblGrid>
                <a:gridCol w="1530360"/>
                <a:gridCol w="1241280"/>
                <a:gridCol w="1067040"/>
                <a:gridCol w="968400"/>
                <a:gridCol w="2303280"/>
              </a:tblGrid>
              <a:tr h="7574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a di abb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 VA Benefic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 VA Non benefic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valore med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me effettuate sulla misura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za  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valore med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17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s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2,2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8,1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est neigh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0,3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     </a:t>
                      </a: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8,1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3,05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matching (0.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5,4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     </a:t>
                      </a: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2,0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3,31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el m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3,2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     </a:t>
                      </a: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669900"/>
                          </a:solidFill>
                          <a:latin typeface="Calibri"/>
                        </a:rPr>
                        <a:t>13,60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ttangolo 17"/>
          <p:cNvSpPr/>
          <p:nvPr/>
        </p:nvSpPr>
        <p:spPr>
          <a:xfrm>
            <a:off x="784080" y="5975280"/>
            <a:ext cx="72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zioni Nuval su dati di monitoraggio e panel RICA 1999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amente significativo all'1% ***;  al 5%**;  al 10%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5"/>
          <p:cNvSpPr/>
          <p:nvPr/>
        </p:nvSpPr>
        <p:spPr>
          <a:xfrm>
            <a:off x="828720" y="116532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ompetitività. Misura 12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sellaDiTesto 5"/>
          <p:cNvSpPr/>
          <p:nvPr/>
        </p:nvSpPr>
        <p:spPr>
          <a:xfrm>
            <a:off x="743040" y="1546200"/>
            <a:ext cx="77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Formazione e 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sellaDiTesto 5"/>
          <p:cNvSpPr/>
          <p:nvPr/>
        </p:nvSpPr>
        <p:spPr>
          <a:xfrm>
            <a:off x="790560" y="26128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maggior parte delle persone in formazione sono assidue e contente dell’esperienza formativa tanto da ripeterla, ma anche  capacità di coinvolgere un numero progressivamente crescente di nuovi ut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vata frammentazione delle esigenze formative (tecnico-produttiv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cesso di aggiornamento usa i media in modo diversificato, combinando canali di informazione div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SR dovrebbe introdurre dei meccanismi di targeting, cioè di selezione dei target deside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sellaDiTesto 5"/>
          <p:cNvSpPr/>
          <p:nvPr/>
        </p:nvSpPr>
        <p:spPr>
          <a:xfrm>
            <a:off x="790560" y="14130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Innovazione e fil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sellaDiTesto 5"/>
          <p:cNvSpPr/>
          <p:nvPr/>
        </p:nvSpPr>
        <p:spPr>
          <a:xfrm>
            <a:off x="790560" y="2384280"/>
            <a:ext cx="779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 124: Risposta all’esigenza di supportare l’innovazione e di accrescere il livello di integr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nergie con il FE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te selezione (ricer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SR: Oltre 1.750 beneficiari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nno introdotto nuovi prodotti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ove tecni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4838760" y="2981160"/>
            <a:ext cx="42195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8640" y="-24300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8640" y="-23652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5"/>
          <p:cNvSpPr/>
          <p:nvPr/>
        </p:nvSpPr>
        <p:spPr>
          <a:xfrm>
            <a:off x="942840" y="1309680"/>
            <a:ext cx="779472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ivers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contributo ha permesso di migliorare i ricavi delle azie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aggiore incidenza della diversificazione (tradi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1"/>
          <a:stretch/>
        </p:blipFill>
        <p:spPr>
          <a:xfrm>
            <a:off x="1380960" y="2954160"/>
            <a:ext cx="64580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5"/>
          <p:cNvSpPr/>
          <p:nvPr/>
        </p:nvSpPr>
        <p:spPr>
          <a:xfrm>
            <a:off x="942840" y="2060640"/>
            <a:ext cx="77947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Il processo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Aspetti di imple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Dimensioni socio-econom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Approccio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iportare al centro dell’attenzione il modo in cui si realizzano beni di natura pubblica diviene, quindi, componente essenziale dei processi di cambiamento odier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« (Di Iacovo,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8640" y="-24300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8640" y="-23652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5"/>
          <p:cNvSpPr/>
          <p:nvPr/>
        </p:nvSpPr>
        <p:spPr>
          <a:xfrm>
            <a:off x="942840" y="1262160"/>
            <a:ext cx="7794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Vill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contributo non ha migliorato in generale la qualità della vita dei beneficia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analisi per singole componenti evidenzia livelli differ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19160" y="2962440"/>
          <a:ext cx="7404120" cy="2867040"/>
        </p:xfrm>
        <a:graphic>
          <a:graphicData uri="http://schemas.openxmlformats.org/drawingml/2006/table">
            <a:tbl>
              <a:tblPr/>
              <a:tblGrid>
                <a:gridCol w="2324160"/>
                <a:gridCol w="5079960"/>
              </a:tblGrid>
              <a:tr h="43488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0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r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zi alla pers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d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Immagine 12" descr=""/>
          <p:cNvPicPr/>
          <p:nvPr/>
        </p:nvPicPr>
        <p:blipFill>
          <a:blip r:embed="rId1"/>
          <a:stretch/>
        </p:blipFill>
        <p:spPr>
          <a:xfrm>
            <a:off x="5699160" y="3838680"/>
            <a:ext cx="352440" cy="342720"/>
          </a:xfrm>
          <a:prstGeom prst="rect">
            <a:avLst/>
          </a:prstGeom>
          <a:ln w="0">
            <a:noFill/>
          </a:ln>
        </p:spPr>
      </p:pic>
      <p:grpSp>
        <p:nvGrpSpPr>
          <p:cNvPr id="179" name="Gruppo 13"/>
          <p:cNvGrpSpPr/>
          <p:nvPr/>
        </p:nvGrpSpPr>
        <p:grpSpPr>
          <a:xfrm>
            <a:off x="5418000" y="4233960"/>
            <a:ext cx="876600" cy="371520"/>
            <a:chOff x="5418000" y="4233960"/>
            <a:chExt cx="876600" cy="371520"/>
          </a:xfrm>
        </p:grpSpPr>
        <p:pic>
          <p:nvPicPr>
            <p:cNvPr id="180" name="Immagine 14" descr=""/>
            <p:cNvPicPr/>
            <p:nvPr/>
          </p:nvPicPr>
          <p:blipFill>
            <a:blip r:embed="rId2"/>
            <a:stretch/>
          </p:blipFill>
          <p:spPr>
            <a:xfrm>
              <a:off x="5418000" y="4233960"/>
              <a:ext cx="352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Immagine 15" descr=""/>
            <p:cNvPicPr/>
            <p:nvPr/>
          </p:nvPicPr>
          <p:blipFill>
            <a:blip r:embed="rId3"/>
            <a:stretch/>
          </p:blipFill>
          <p:spPr>
            <a:xfrm>
              <a:off x="5941800" y="4233960"/>
              <a:ext cx="35280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Immagine 16" descr=""/>
          <p:cNvPicPr/>
          <p:nvPr/>
        </p:nvPicPr>
        <p:blipFill>
          <a:blip r:embed="rId4"/>
          <a:stretch/>
        </p:blipFill>
        <p:spPr>
          <a:xfrm>
            <a:off x="5699160" y="4646520"/>
            <a:ext cx="352440" cy="327240"/>
          </a:xfrm>
          <a:prstGeom prst="rect">
            <a:avLst/>
          </a:prstGeom>
          <a:ln w="0">
            <a:noFill/>
          </a:ln>
        </p:spPr>
      </p:pic>
      <p:pic>
        <p:nvPicPr>
          <p:cNvPr id="183" name="Immagine 17" descr=""/>
          <p:cNvPicPr/>
          <p:nvPr/>
        </p:nvPicPr>
        <p:blipFill>
          <a:blip r:embed="rId5"/>
          <a:stretch/>
        </p:blipFill>
        <p:spPr>
          <a:xfrm>
            <a:off x="5699160" y="5056200"/>
            <a:ext cx="352440" cy="326880"/>
          </a:xfrm>
          <a:prstGeom prst="rect">
            <a:avLst/>
          </a:prstGeom>
          <a:ln w="0">
            <a:noFill/>
          </a:ln>
        </p:spPr>
      </p:pic>
      <p:pic>
        <p:nvPicPr>
          <p:cNvPr id="184" name="Immagine 18" descr=""/>
          <p:cNvPicPr/>
          <p:nvPr/>
        </p:nvPicPr>
        <p:blipFill>
          <a:blip r:embed="rId6"/>
          <a:stretch/>
        </p:blipFill>
        <p:spPr>
          <a:xfrm>
            <a:off x="5699160" y="5438880"/>
            <a:ext cx="352440" cy="37152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po 20"/>
          <p:cNvGrpSpPr/>
          <p:nvPr/>
        </p:nvGrpSpPr>
        <p:grpSpPr>
          <a:xfrm>
            <a:off x="5418000" y="3429000"/>
            <a:ext cx="878040" cy="343080"/>
            <a:chOff x="5418000" y="3429000"/>
            <a:chExt cx="878040" cy="343080"/>
          </a:xfrm>
        </p:grpSpPr>
        <p:pic>
          <p:nvPicPr>
            <p:cNvPr id="186" name="Immagine 21" descr=""/>
            <p:cNvPicPr/>
            <p:nvPr/>
          </p:nvPicPr>
          <p:blipFill>
            <a:blip r:embed="rId7"/>
            <a:stretch/>
          </p:blipFill>
          <p:spPr>
            <a:xfrm>
              <a:off x="5418000" y="3429000"/>
              <a:ext cx="35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Immagine 22" descr=""/>
            <p:cNvPicPr/>
            <p:nvPr/>
          </p:nvPicPr>
          <p:blipFill>
            <a:blip r:embed="rId8"/>
            <a:stretch/>
          </p:blipFill>
          <p:spPr>
            <a:xfrm>
              <a:off x="5942520" y="3429000"/>
              <a:ext cx="3535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CasellaDiTesto 33"/>
          <p:cNvSpPr/>
          <p:nvPr/>
        </p:nvSpPr>
        <p:spPr>
          <a:xfrm>
            <a:off x="3716280" y="5910120"/>
            <a:ext cx="7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-5 &lt; I &lt;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36"/>
          <p:cNvSpPr/>
          <p:nvPr/>
        </p:nvSpPr>
        <p:spPr>
          <a:xfrm>
            <a:off x="1386000" y="5910120"/>
            <a:ext cx="5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 &lt;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37"/>
          <p:cNvSpPr/>
          <p:nvPr/>
        </p:nvSpPr>
        <p:spPr>
          <a:xfrm>
            <a:off x="2398680" y="5910120"/>
            <a:ext cx="7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-15 &lt; I &lt;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sellaDiTesto 38"/>
          <p:cNvSpPr/>
          <p:nvPr/>
        </p:nvSpPr>
        <p:spPr>
          <a:xfrm>
            <a:off x="5033880" y="5910120"/>
            <a:ext cx="7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5 &lt; I &lt;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sellaDiTesto 39"/>
          <p:cNvSpPr/>
          <p:nvPr/>
        </p:nvSpPr>
        <p:spPr>
          <a:xfrm>
            <a:off x="6351480" y="5910120"/>
            <a:ext cx="7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 &gt;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magine 43" descr=""/>
          <p:cNvPicPr/>
          <p:nvPr/>
        </p:nvPicPr>
        <p:blipFill>
          <a:blip r:embed="rId9"/>
          <a:stretch/>
        </p:blipFill>
        <p:spPr>
          <a:xfrm>
            <a:off x="2075040" y="5965920"/>
            <a:ext cx="176040" cy="171360"/>
          </a:xfrm>
          <a:prstGeom prst="rect">
            <a:avLst/>
          </a:prstGeom>
          <a:ln w="0">
            <a:noFill/>
          </a:ln>
        </p:spPr>
      </p:pic>
      <p:pic>
        <p:nvPicPr>
          <p:cNvPr id="194" name="Immagine 44" descr=""/>
          <p:cNvPicPr/>
          <p:nvPr/>
        </p:nvPicPr>
        <p:blipFill>
          <a:blip r:embed="rId10"/>
          <a:stretch/>
        </p:blipFill>
        <p:spPr>
          <a:xfrm>
            <a:off x="3540240" y="5973840"/>
            <a:ext cx="176040" cy="163440"/>
          </a:xfrm>
          <a:prstGeom prst="rect">
            <a:avLst/>
          </a:prstGeom>
          <a:ln w="0">
            <a:noFill/>
          </a:ln>
        </p:spPr>
      </p:pic>
      <p:pic>
        <p:nvPicPr>
          <p:cNvPr id="195" name="Immagine 45" descr=""/>
          <p:cNvPicPr/>
          <p:nvPr/>
        </p:nvPicPr>
        <p:blipFill>
          <a:blip r:embed="rId11"/>
          <a:stretch/>
        </p:blipFill>
        <p:spPr>
          <a:xfrm>
            <a:off x="6145200" y="5951520"/>
            <a:ext cx="176400" cy="185760"/>
          </a:xfrm>
          <a:prstGeom prst="rect">
            <a:avLst/>
          </a:prstGeom>
          <a:ln w="0">
            <a:noFill/>
          </a:ln>
        </p:spPr>
      </p:pic>
      <p:pic>
        <p:nvPicPr>
          <p:cNvPr id="196" name="Immagine 46" descr=""/>
          <p:cNvPicPr/>
          <p:nvPr/>
        </p:nvPicPr>
        <p:blipFill>
          <a:blip r:embed="rId12"/>
          <a:stretch/>
        </p:blipFill>
        <p:spPr>
          <a:xfrm>
            <a:off x="1154160" y="5965920"/>
            <a:ext cx="177840" cy="171360"/>
          </a:xfrm>
          <a:prstGeom prst="rect">
            <a:avLst/>
          </a:prstGeom>
          <a:ln w="0">
            <a:noFill/>
          </a:ln>
        </p:spPr>
      </p:pic>
      <p:pic>
        <p:nvPicPr>
          <p:cNvPr id="197" name="Immagine 47" descr=""/>
          <p:cNvPicPr/>
          <p:nvPr/>
        </p:nvPicPr>
        <p:blipFill>
          <a:blip r:embed="rId13"/>
          <a:stretch/>
        </p:blipFill>
        <p:spPr>
          <a:xfrm>
            <a:off x="930240" y="5965920"/>
            <a:ext cx="177840" cy="171360"/>
          </a:xfrm>
          <a:prstGeom prst="rect">
            <a:avLst/>
          </a:prstGeom>
          <a:ln w="0">
            <a:noFill/>
          </a:ln>
        </p:spPr>
      </p:pic>
      <p:pic>
        <p:nvPicPr>
          <p:cNvPr id="198" name="Immagine 48" descr=""/>
          <p:cNvPicPr/>
          <p:nvPr/>
        </p:nvPicPr>
        <p:blipFill>
          <a:blip r:embed="rId14"/>
          <a:stretch/>
        </p:blipFill>
        <p:spPr>
          <a:xfrm>
            <a:off x="5880240" y="5951520"/>
            <a:ext cx="177840" cy="185760"/>
          </a:xfrm>
          <a:prstGeom prst="rect">
            <a:avLst/>
          </a:prstGeom>
          <a:ln w="0">
            <a:noFill/>
          </a:ln>
        </p:spPr>
      </p:pic>
      <p:pic>
        <p:nvPicPr>
          <p:cNvPr id="199" name="Immagine 49" descr=""/>
          <p:cNvPicPr/>
          <p:nvPr/>
        </p:nvPicPr>
        <p:blipFill>
          <a:blip r:embed="rId15"/>
          <a:stretch/>
        </p:blipFill>
        <p:spPr>
          <a:xfrm>
            <a:off x="4751280" y="5951520"/>
            <a:ext cx="1778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58640" y="-24300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58640" y="-23652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asellaDiTesto 5"/>
          <p:cNvSpPr/>
          <p:nvPr/>
        </p:nvSpPr>
        <p:spPr>
          <a:xfrm>
            <a:off x="942840" y="1262160"/>
            <a:ext cx="779472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For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on speso “bene e tanto” come ci si aspett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rascinamenti consistenti (oltre 9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postamenti risorse dipesi probabilmente più da fattori contingenti che da pianificazione iniziale (es.  M122 dotazione ridotta sul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ormazione, associazionismo e innovazione: posi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lvicoltura non effic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luenza negativa aspetti burocratici imposti da P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sso livello di con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si economica iniziata n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venti a macchiatico negativo, quindi non «allettanti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6"/>
          <p:cNvSpPr/>
          <p:nvPr/>
        </p:nvSpPr>
        <p:spPr>
          <a:xfrm>
            <a:off x="800280" y="843120"/>
            <a:ext cx="77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iscussione 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8640" y="-24300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8640" y="-23652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sellaDiTesto 5"/>
          <p:cNvSpPr/>
          <p:nvPr/>
        </p:nvSpPr>
        <p:spPr>
          <a:xfrm>
            <a:off x="942840" y="1300320"/>
            <a:ext cx="779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Che cosa è andato meg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nuta sulla cr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adute positive di investimenti (check) e diversif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«Palestra di innovazione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Che cosa ha fatto il su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dure: approccio a scorrimento si è rilevato cri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teri selezione: complicati e non omoge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versificazione comunque di tipo molto tradi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canza progetti integ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Cosa di può miglio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occi più complessi e «decisi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criteri: puntare la bersaglio grosso (crisi, HC, 1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ndi e procedure più semp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anizzazione interna Ad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Asse IV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Fabbisogni e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asellaDiTesto 5"/>
          <p:cNvSpPr/>
          <p:nvPr/>
        </p:nvSpPr>
        <p:spPr>
          <a:xfrm>
            <a:off x="831960" y="2060640"/>
            <a:ext cx="779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SR 2007-2013 Leader ricollegato a due specifici fabbisog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e le reti partenariali e organizzare le istanze locali attraverso meccanismi di "regia" basati sull'approccio partecip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re e diffondere la capacità di progettare e attuare programmi di sviluppo locale integra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 discende il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ruolo</a:t>
            </a:r>
            <a:r>
              <a:rPr b="1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strategico della governance loc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dal cui rafforzamento discende la possibilità di raggiungere gli obiettivi operativi collegati ai fabbisog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omande aggiu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sellaDiTesto 5"/>
          <p:cNvSpPr/>
          <p:nvPr/>
        </p:nvSpPr>
        <p:spPr>
          <a:xfrm>
            <a:off x="831960" y="2060640"/>
            <a:ext cx="779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te coinvolgimento AdG nelle attività valutazione ha dato origine a richieste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approfondimenti valutativi aggiuntiv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i interventi compresi nelle filiere/reti locali hanno contribuito a consolidare rapporti stabili tra le impre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nuto conto del nuovo inserimento di Leader nel PSR nella programmazione 2007- 2013, in quale misura l’organizzazione del circuito finanziario ha determinato l’efficienza nell’utilizzo dei contributi PS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risultano centrali aspetti collegati alla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governance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asellaDiTesto 6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La governanc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5"/>
          <p:cNvSpPr/>
          <p:nvPr/>
        </p:nvSpPr>
        <p:spPr>
          <a:xfrm>
            <a:off x="831960" y="2060640"/>
            <a:ext cx="779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cuni aspetti indag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governance del territorio per favorire lo sviluppo di nuove forme di governance loc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meccanismi che favoriscono la creazione di reti tra imprese loc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struzione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s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cale per la rappresentazione e l’auto- organizzazione delle istanze loc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uild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i G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impatto di Leader sull’economia dei Comuni G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ità procedur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asellaDiTesto 6"/>
          <p:cNvSpPr/>
          <p:nvPr/>
        </p:nvSpPr>
        <p:spPr>
          <a:xfrm>
            <a:off x="1015920" y="138600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La governance del terri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sellaDiTesto 5"/>
          <p:cNvSpPr/>
          <p:nvPr/>
        </p:nvSpPr>
        <p:spPr>
          <a:xfrm>
            <a:off x="841320" y="1843200"/>
            <a:ext cx="7794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esperienza de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bandi di filie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me esempio di applicazione dell’approccio Leader: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ss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i bandi di filiera, così come di Leader, è quella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accompagnare i territori elaborare strategie di sviluppo </a:t>
            </a:r>
            <a:r>
              <a:rPr b="0" i="1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dal di dentro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ono valutati il contributo degli interventi di filiera nel rendere più stabili i rapporti tra le imprese che ne fanno parte (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governance del terri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 le modalità di aggregazione da parte delle imprese (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vision strategica del terri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ono osser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Filiere form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formalizzazioni di accordi di scamb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Filiere- sistem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occasioni per realizzare progetti di sviluppo e apportare innov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71720" y="1979640"/>
          <a:ext cx="5257800" cy="3051000"/>
        </p:xfrm>
        <a:graphic>
          <a:graphicData uri="http://schemas.openxmlformats.org/drawingml/2006/table">
            <a:tbl>
              <a:tblPr/>
              <a:tblGrid>
                <a:gridCol w="2906640"/>
                <a:gridCol w="2351160"/>
              </a:tblGrid>
              <a:tr h="32400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ande amme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e benefici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l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L coinvol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ande medie per fil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totale amme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91.983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totale pag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56.273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medio ammesso per fil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.433,195 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medio pagamento per fil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80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CasellaDiTesto 12"/>
          <p:cNvSpPr/>
          <p:nvPr/>
        </p:nvSpPr>
        <p:spPr>
          <a:xfrm>
            <a:off x="1593720" y="15224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I bandi di fil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6"/>
          <p:cNvSpPr/>
          <p:nvPr/>
        </p:nvSpPr>
        <p:spPr>
          <a:xfrm>
            <a:off x="1015920" y="138600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Capacity Building dei G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sellaDiTesto 5"/>
          <p:cNvSpPr/>
          <p:nvPr/>
        </p:nvSpPr>
        <p:spPr>
          <a:xfrm>
            <a:off x="841320" y="1843200"/>
            <a:ext cx="77947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efficienza dei GAL come condizione necessaria per favorire sviluppo endo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le efficienz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à gestionale e amministra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à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ogliere le istanze del territorio, rappresentarle, facilitarne l’espressione e, dunque, l’attu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l ruolo dei GAL non solo come promotori ma come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  <a:ea typeface="Times New Roman"/>
              </a:rPr>
              <a:t>diretti fautori di sviluppo loc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 ogni GAL analizzate: coerenza obiettivi PSL- azioni attuate, misure 410, 421, 431, aiuti pagati e valore totale operazioni, promozione di reti e filiere, criticità procedurali incon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52480" y="3257640"/>
          <a:ext cx="5532480" cy="1695240"/>
        </p:xfrm>
        <a:graphic>
          <a:graphicData uri="http://schemas.openxmlformats.org/drawingml/2006/table">
            <a:tbl>
              <a:tblPr/>
              <a:tblGrid>
                <a:gridCol w="2686320"/>
                <a:gridCol w="933480"/>
                <a:gridCol w="961920"/>
                <a:gridCol w="950760"/>
              </a:tblGrid>
              <a:tr h="473040"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444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 % imprese (Valori med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3.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4"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 % imprese con abbinamento statistic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arest Neigh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us Matching (0.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.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.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126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rnel M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2600" bIns="144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CasellaDiTesto 11"/>
          <p:cNvSpPr/>
          <p:nvPr/>
        </p:nvSpPr>
        <p:spPr>
          <a:xfrm>
            <a:off x="876240" y="1979640"/>
            <a:ext cx="78613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riazione % delle imprese attive tra il 2006 e il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= comuni Leader (area 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T= comuni eleggibili ma non Leader (NON area 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asellaDiTesto 12"/>
          <p:cNvSpPr/>
          <p:nvPr/>
        </p:nvSpPr>
        <p:spPr>
          <a:xfrm>
            <a:off x="1593720" y="15224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L’impatto di Leader sull’economia dei Comuni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15"/>
          <p:cNvSpPr/>
          <p:nvPr/>
        </p:nvSpPr>
        <p:spPr>
          <a:xfrm>
            <a:off x="876240" y="5124600"/>
            <a:ext cx="780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quadro complessivamente sfavorevole per il tessuto produttivo, l’impatto di Leader è stato comunque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osi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ll’economia dei comuni che ne hanno benefici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l processo di valut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5"/>
          <p:cNvSpPr/>
          <p:nvPr/>
        </p:nvSpPr>
        <p:spPr>
          <a:xfrm>
            <a:off x="790560" y="1870200"/>
            <a:ext cx="77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cesso valutativo accompagna il PSR sin dal momento della definizione dell’impianto programmatico [VEXA] e lu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to il ciclo di attuazione [On going, intermdio, ex post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di valutazione inter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i tematiche ann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divulgative (Seminari, iniziative divulgative, conveg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419200" y="4191120"/>
            <a:ext cx="446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sellaDiTesto 6"/>
          <p:cNvSpPr/>
          <p:nvPr/>
        </p:nvSpPr>
        <p:spPr>
          <a:xfrm>
            <a:off x="800280" y="843120"/>
            <a:ext cx="77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iscussione 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79440" y="-501480"/>
            <a:ext cx="78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58640" y="-24300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58640" y="-236520"/>
            <a:ext cx="78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sellaDiTesto 5"/>
          <p:cNvSpPr/>
          <p:nvPr/>
        </p:nvSpPr>
        <p:spPr>
          <a:xfrm>
            <a:off x="942840" y="1300320"/>
            <a:ext cx="779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Che cosa è andato meg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Ricadute economiche di resistenza al fenomeno di cris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Ruolo dei GAL sul territo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Coordinamento con Ad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Che cosa ha fatto il su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Difficoltà procedurali e vincoli ai 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Criticità in termini di risorse (anche um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8000"/>
                </a:solidFill>
                <a:latin typeface="Arial"/>
              </a:rPr>
              <a:t>Quali miglioramenti poss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Gestione di un più ampio bottom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Aspetti di gestione e di 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11111"/>
                </a:solidFill>
                <a:latin typeface="Arial"/>
              </a:rPr>
              <a:t>Animazione dei GAL su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12"/>
          <p:cNvSpPr/>
          <p:nvPr/>
        </p:nvSpPr>
        <p:spPr>
          <a:xfrm>
            <a:off x="1289160" y="28940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790560" y="1936800"/>
            <a:ext cx="779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lutazione ex post è un ultimo step, anche con valenza riassun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ado di utilizzo delle risor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fficacia ed efficienz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giungimento degli obiet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rizzi utili al policy ma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ttori di successo o di insuccess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giungimento degli obiettivi (effett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osta alle EQ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5"/>
          <p:cNvSpPr/>
          <p:nvPr/>
        </p:nvSpPr>
        <p:spPr>
          <a:xfrm>
            <a:off x="790560" y="1936800"/>
            <a:ext cx="779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ex post deve rispondere ai «Quesiti Valutativi Comuni» (CEQ) definiti a livello comunitario e alla domanda valutativa specifica 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85800" y="3224160"/>
            <a:ext cx="3790800" cy="20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4475160" y="2635200"/>
            <a:ext cx="46022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790560" y="17082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Proporzionalità e misure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2448000"/>
          <a:ext cx="7442280" cy="3630600"/>
        </p:xfrm>
        <a:graphic>
          <a:graphicData uri="http://schemas.openxmlformats.org/drawingml/2006/table">
            <a:tbl>
              <a:tblPr/>
              <a:tblGrid>
                <a:gridCol w="2619360"/>
                <a:gridCol w="2706840"/>
                <a:gridCol w="211608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1f497d"/>
                          </a:solidFill>
                          <a:latin typeface="Verdana"/>
                        </a:rPr>
                        <a:t>ASSE 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33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1f497d"/>
                          </a:solidFill>
                          <a:latin typeface="Verdana"/>
                        </a:rPr>
                        <a:t>ASSE 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1f497d"/>
                          </a:solidFill>
                          <a:latin typeface="Verdana"/>
                        </a:rPr>
                        <a:t>ASSE III E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Azioni nel campo della formazione professionale e dell'informa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2,3% VI); (4,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33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1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Indennità a favore degli agricoltori delle zone monta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5,4% VI); (5,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1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iversificazione in attività non agricole 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1,5% VI); (1,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Insediamento di giovani agricoltori 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6,0% VI); (4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33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Pagamenti agroambienta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28,8% VI); (31,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Sviluppo e rinnovamento dei villagg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3,0% VI); (3,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Ammodernamento delle aziende agricole 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14,2% VI); (14,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33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 IV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LEADER 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6.0% VI); (5,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936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3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Accrescimento del valore aggiunto dei prodotti agricoli e forestali 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7,2% VI); (7,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33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9360">
                      <a:solidFill>
                        <a:srgbClr val="00cc00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cc00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9360">
                      <a:solidFill>
                        <a:srgbClr val="00cc00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5"/>
          <p:cNvSpPr/>
          <p:nvPr/>
        </p:nvSpPr>
        <p:spPr>
          <a:xfrm>
            <a:off x="790560" y="1555920"/>
            <a:ext cx="779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Mix di metodi e f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 5. In che misura il PSR ha contribuito a migliorare la competitività del settore agricolo e foresta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90560" y="2752560"/>
          <a:ext cx="8020080" cy="3427560"/>
        </p:xfrm>
        <a:graphic>
          <a:graphicData uri="http://schemas.openxmlformats.org/drawingml/2006/table">
            <a:tbl>
              <a:tblPr/>
              <a:tblGrid>
                <a:gridCol w="1962000"/>
                <a:gridCol w="1305000"/>
                <a:gridCol w="1314720"/>
                <a:gridCol w="1866600"/>
                <a:gridCol w="1571760"/>
              </a:tblGrid>
              <a:tr h="6764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Met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Criterio di giudiz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QC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Indicatori specif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Fo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511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h based. (descritt., indicat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Quasi sperimen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ench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Analisi I/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a P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 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 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2 -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. effici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. effic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minist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a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28560" y="149544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Arial"/>
                <a:ea typeface="Arial"/>
              </a:rPr>
              <a:t>Il valutato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Nu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’ un organismo indipendente e allo stesso temp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Arial"/>
                <a:ea typeface="Arial"/>
              </a:rPr>
              <a:t>Il modello di governan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I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Per creare un percorso virtuoso di valutazione, massimizzando i vantaggi derivanti dall’</a:t>
            </a:r>
            <a:r>
              <a:rPr b="0" lang="it-IT" sz="2000" spc="-1" strike="noStrike">
                <a:solidFill>
                  <a:srgbClr val="339933"/>
                </a:solidFill>
                <a:latin typeface="Arial"/>
                <a:ea typeface="Calibri"/>
              </a:rPr>
              <a:t>indipendenz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del valutatore (es. obiettività) e allo stesso tempo dalla sua </a:t>
            </a:r>
            <a:r>
              <a:rPr b="0" lang="it-IT" sz="2000" spc="-1" strike="noStrike">
                <a:solidFill>
                  <a:srgbClr val="339933"/>
                </a:solidFill>
                <a:latin typeface="Arial"/>
                <a:ea typeface="Calibri"/>
              </a:rPr>
              <a:t>appartenenz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all’amministrazione (es. migliore conoscenza del contes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Costruzione di un network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Attivazione di strutture per favorire la governance: SG e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uppo 7"/>
          <p:cNvGrpSpPr/>
          <p:nvPr/>
        </p:nvGrpSpPr>
        <p:grpSpPr>
          <a:xfrm>
            <a:off x="1071720" y="1798560"/>
            <a:ext cx="7353000" cy="4081680"/>
            <a:chOff x="1071720" y="1798560"/>
            <a:chExt cx="7353000" cy="4081680"/>
          </a:xfrm>
        </p:grpSpPr>
        <p:sp>
          <p:nvSpPr>
            <p:cNvPr id="89" name="Bevel 21"/>
            <p:cNvSpPr/>
            <p:nvPr/>
          </p:nvSpPr>
          <p:spPr>
            <a:xfrm>
              <a:off x="5614920" y="3852720"/>
              <a:ext cx="1357200" cy="1074600"/>
            </a:xfrm>
            <a:prstGeom prst="bevel">
              <a:avLst>
                <a:gd name="adj" fmla="val 12500"/>
              </a:avLst>
            </a:prstGeom>
            <a:solidFill>
              <a:srgbClr val="6bcf9d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IPLA sp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Bevel 21"/>
            <p:cNvSpPr/>
            <p:nvPr/>
          </p:nvSpPr>
          <p:spPr>
            <a:xfrm>
              <a:off x="4098960" y="3852720"/>
              <a:ext cx="1357200" cy="1074600"/>
            </a:xfrm>
            <a:prstGeom prst="bevel">
              <a:avLst>
                <a:gd name="adj" fmla="val 12500"/>
              </a:avLst>
            </a:prstGeom>
            <a:solidFill>
              <a:srgbClr val="6bcf9d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DI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Bevel 21"/>
            <p:cNvSpPr/>
            <p:nvPr/>
          </p:nvSpPr>
          <p:spPr>
            <a:xfrm>
              <a:off x="2585880" y="3852720"/>
              <a:ext cx="1355400" cy="1074600"/>
            </a:xfrm>
            <a:prstGeom prst="bevel">
              <a:avLst>
                <a:gd name="adj" fmla="val 12500"/>
              </a:avLst>
            </a:prstGeom>
            <a:solidFill>
              <a:srgbClr val="6bcf9d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Ceris CN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Bevel 21"/>
            <p:cNvSpPr/>
            <p:nvPr/>
          </p:nvSpPr>
          <p:spPr>
            <a:xfrm>
              <a:off x="1071720" y="3852720"/>
              <a:ext cx="1357200" cy="1074600"/>
            </a:xfrm>
            <a:prstGeom prst="bevel">
              <a:avLst>
                <a:gd name="adj" fmla="val 12500"/>
              </a:avLst>
            </a:prstGeom>
            <a:solidFill>
              <a:srgbClr val="6bcf9d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Ires Pi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Bevel 22"/>
            <p:cNvSpPr/>
            <p:nvPr/>
          </p:nvSpPr>
          <p:spPr>
            <a:xfrm>
              <a:off x="4075200" y="2563560"/>
              <a:ext cx="1357200" cy="1076400"/>
            </a:xfrm>
            <a:prstGeom prst="bevel">
              <a:avLst>
                <a:gd name="adj" fmla="val 12500"/>
              </a:avLst>
            </a:prstGeom>
            <a:solidFill>
              <a:srgbClr val="1f5f3f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NU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Bevel 22"/>
            <p:cNvSpPr/>
            <p:nvPr/>
          </p:nvSpPr>
          <p:spPr>
            <a:xfrm>
              <a:off x="2960640" y="1798560"/>
              <a:ext cx="3574800" cy="684000"/>
            </a:xfrm>
            <a:prstGeom prst="bevel">
              <a:avLst>
                <a:gd name="adj" fmla="val 12500"/>
              </a:avLst>
            </a:prstGeom>
            <a:solidFill>
              <a:srgbClr val="a6a6a6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AdG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Comitato di Sorveglia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Bevel 22"/>
            <p:cNvSpPr/>
            <p:nvPr/>
          </p:nvSpPr>
          <p:spPr>
            <a:xfrm>
              <a:off x="1555560" y="5029560"/>
              <a:ext cx="6360840" cy="392040"/>
            </a:xfrm>
            <a:prstGeom prst="bevel">
              <a:avLst>
                <a:gd name="adj" fmla="val 12500"/>
              </a:avLst>
            </a:prstGeom>
            <a:solidFill>
              <a:srgbClr val="ae4845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C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Bevel 22"/>
            <p:cNvSpPr/>
            <p:nvPr/>
          </p:nvSpPr>
          <p:spPr>
            <a:xfrm>
              <a:off x="1555560" y="5477040"/>
              <a:ext cx="6360840" cy="403200"/>
            </a:xfrm>
            <a:prstGeom prst="bevel">
              <a:avLst>
                <a:gd name="adj" fmla="val 12500"/>
              </a:avLst>
            </a:prstGeom>
            <a:solidFill>
              <a:srgbClr val="ae4845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ARP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Bevel 22"/>
            <p:cNvSpPr/>
            <p:nvPr/>
          </p:nvSpPr>
          <p:spPr>
            <a:xfrm>
              <a:off x="1676520" y="2574720"/>
              <a:ext cx="1357200" cy="1076400"/>
            </a:xfrm>
            <a:prstGeom prst="bevel">
              <a:avLst>
                <a:gd name="adj" fmla="val 12500"/>
              </a:avLst>
            </a:prstGeom>
            <a:solidFill>
              <a:srgbClr val="ffc000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Steer. Grou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Bevel 21"/>
            <p:cNvSpPr/>
            <p:nvPr/>
          </p:nvSpPr>
          <p:spPr>
            <a:xfrm>
              <a:off x="7067520" y="3852720"/>
              <a:ext cx="1357200" cy="1074600"/>
            </a:xfrm>
            <a:prstGeom prst="bevel">
              <a:avLst>
                <a:gd name="adj" fmla="val 12500"/>
              </a:avLst>
            </a:prstGeom>
            <a:solidFill>
              <a:srgbClr val="6bcf9d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IN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ccia bidirezionale orizzontale 18"/>
            <p:cNvSpPr/>
            <p:nvPr/>
          </p:nvSpPr>
          <p:spPr>
            <a:xfrm>
              <a:off x="5545080" y="3011400"/>
              <a:ext cx="666720" cy="280800"/>
            </a:xfrm>
            <a:prstGeom prst="leftRightArrow">
              <a:avLst>
                <a:gd name="adj1" fmla="val 50000"/>
                <a:gd name="adj2" fmla="val 5410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Bevel 22"/>
            <p:cNvSpPr/>
            <p:nvPr/>
          </p:nvSpPr>
          <p:spPr>
            <a:xfrm>
              <a:off x="6321600" y="2563560"/>
              <a:ext cx="1355400" cy="1076400"/>
            </a:xfrm>
            <a:prstGeom prst="bevel">
              <a:avLst>
                <a:gd name="adj" fmla="val 12500"/>
              </a:avLst>
            </a:prstGeom>
            <a:solidFill>
              <a:srgbClr val="ffc000"/>
            </a:solidFill>
            <a:ln w="25560">
              <a:solidFill>
                <a:srgbClr val="3f5a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crosoft Sans Serif"/>
                  <a:ea typeface="Microsoft Sans Serif"/>
                </a:rPr>
                <a:t>Unità te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ccia bidirezionale orizzontale 20"/>
            <p:cNvSpPr/>
            <p:nvPr/>
          </p:nvSpPr>
          <p:spPr>
            <a:xfrm>
              <a:off x="3381480" y="3020760"/>
              <a:ext cx="666720" cy="277560"/>
            </a:xfrm>
            <a:prstGeom prst="leftRightArrow">
              <a:avLst>
                <a:gd name="adj1" fmla="val 50000"/>
                <a:gd name="adj2" fmla="val 5411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6-11-11T09:41:04Z</dcterms:modified>
  <cp:revision>184</cp:revision>
  <dc:subject/>
  <dc:title>Diapositiva 1</dc:title>
</cp:coreProperties>
</file>