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4/10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49480" y="9428040"/>
            <a:ext cx="29430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372F1-B6BC-4E26-A887-9D3DDAEA27C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/02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9840" y="94280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4EC96-0AE1-4DCD-876A-91324628690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C135A-AEA8-4819-9AEE-6AA1EA1DF86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1A439-0CC4-48A6-B412-CB4034FF02A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8CA52-96E8-4C0C-B497-AFC63572361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FD8C9-7BAB-47D3-9CC0-193DAF99330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2A699-B1B2-41F1-AE46-4C5BDB39222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A781A-2E97-4C47-9FD4-C897D3EABE7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B2D95-572D-4C09-BE49-293CBDC36C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/02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49840" y="94280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16FDC-F80A-4019-99A6-DF422FC6CB5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3DF14-066F-43AC-84DC-2149C558A2F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/02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49840" y="94280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39A99-194F-4EB0-8919-14424345050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645FF-B890-4631-97C5-BEE606DEFCF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91EF0-638E-48AD-AE71-80CC559FA66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3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/02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49840" y="94280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4DDCE-1AAC-4F1E-AEA6-79FB91F3A0D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/02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49840" y="94280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6DDF5-35CF-439B-871D-5A8F377A3F0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41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/02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49840" y="94280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204DC-0441-4E62-8C6D-FCEBB55F43A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45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/02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9840" y="94280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BAF2C-8D70-4343-8FD6-4780D8C4001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/02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49840" y="94280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B16C7-F6B3-4F21-8FA1-D68E655B696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53" name=""/>
          <p:cNvSpPr/>
          <p:nvPr/>
        </p:nvSpPr>
        <p:spPr>
          <a:xfrm>
            <a:off x="6793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/02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9840" y="94280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10337-2DA7-4BC7-AD4D-B81F8F88056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781668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6520" y="4317480"/>
            <a:ext cx="781668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1880" y="23428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6520" y="43174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1880" y="43174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251676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2342880"/>
            <a:ext cx="251676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2400" y="2342880"/>
            <a:ext cx="251676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6520" y="4317480"/>
            <a:ext cx="251676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4317480"/>
            <a:ext cx="251676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2400" y="4317480"/>
            <a:ext cx="251676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6520" y="2342880"/>
            <a:ext cx="781668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781668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420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1880" y="2342880"/>
            <a:ext cx="381420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6880" y="1390320"/>
            <a:ext cx="745488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880" y="2342880"/>
            <a:ext cx="381420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6520" y="43174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420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880" y="23428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1880" y="43174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6520" y="23428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1880" y="2342880"/>
            <a:ext cx="381420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6520" y="4317480"/>
            <a:ext cx="7816680" cy="18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6880" y="1390320"/>
            <a:ext cx="745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6520" y="2342880"/>
            <a:ext cx="781668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6375240"/>
            <a:ext cx="24922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8 OTTOBRE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7920" y="6384600"/>
            <a:ext cx="308304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52600" y="6334200"/>
            <a:ext cx="8591400" cy="144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561960" y="1676160"/>
            <a:ext cx="1440" cy="466092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741240"/>
            <a:ext cx="8001000" cy="1800"/>
          </a:xfrm>
          <a:prstGeom prst="line">
            <a:avLst/>
          </a:prstGeom>
          <a:ln cap="sq"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0" t="0" r="0" b="19413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rcRect l="8022" t="11796" r="17650" b="7622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ottobre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6384960"/>
            <a:ext cx="357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563840"/>
            <a:ext cx="74390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PSR 2014 – 202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Il piano di comunic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attività e proget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811680"/>
            <a:ext cx="7667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6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9f4f24"/>
                </a:solidFill>
                <a:latin typeface="Arial"/>
              </a:rPr>
              <a:t>Valentina Archim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6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6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200" spc="-1" strike="noStrike">
                <a:solidFill>
                  <a:srgbClr val="9f4f24"/>
                </a:solidFill>
                <a:latin typeface="Arial"/>
              </a:rPr>
              <a:t>referente piano di comunicazione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6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200" spc="-1" strike="noStrike">
                <a:solidFill>
                  <a:srgbClr val="9f4f24"/>
                </a:solidFill>
                <a:latin typeface="Arial"/>
              </a:rPr>
              <a:t>Regione Piemonte, Direzione Agricol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87680" y="1008000"/>
            <a:ext cx="74926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Comunicazione a supporto della misura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1320" y="2313000"/>
            <a:ext cx="779472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Misura 10 nel suo complesso: infografiche e materiali stamp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erazioni 10.1.6 e 10.1.9 “Pascol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realizzazione video su buone pratiche (allevatori in alpegg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incontri informativi sul terr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Agricoltura conservativa: articoli e pubbl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429160" indent="-359712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63680" y="1057320"/>
            <a:ext cx="74930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        </a:t>
            </a: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Comunicazione forest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41320" y="2313000"/>
            <a:ext cx="779472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to web – sezione dedic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wsletter forestale dedicata (mensile, oltre 5.400 contat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o social network istituzionali per informazione sui ba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blicazioni a supporto di formazione e in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vegni e seminari specif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canti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pertorio fotografico su realtà e attività forestali in Piemonte, con supporto tecnico specia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izzazione materiale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429160" indent="-359712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44520" y="12463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Arial"/>
              </a:rPr>
              <a:t>Citta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Arial"/>
              </a:rPr>
              <a:t>I nostri canali aper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42840" y="1920960"/>
            <a:ext cx="7794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35200" y="3398760"/>
            <a:ext cx="189252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82640" y="1035000"/>
            <a:ext cx="749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“</a:t>
            </a: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A scuola di PS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Un progetto con gli Istituti agr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41320" y="2313000"/>
            <a:ext cx="779472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anno aderito tutti gli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 Istituti Agrari del Piem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500 studenti e 130 docenti delle classi III, IV,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triennale, dall’a.s. 2017/2018 fino al 2020. Stiamo partend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iettivi:  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conoscere il PS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le politiche comunitar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arare a utilizzarlo e applic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dividere la propria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esperi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pproccio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applicativo,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MS PGothic"/>
              </a:rPr>
              <a:t>coinvolgente, in 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429160" indent="-359712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82640" y="1035000"/>
            <a:ext cx="749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“</a:t>
            </a: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A scuola di PS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Un progetto con gli Istituti agr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1320" y="2313000"/>
            <a:ext cx="779472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PSR da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lancio progetto (maggio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corso formativo per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doc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prevalentemente e-learning (ott-d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corso formativo per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stud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in e-learning, con webinar e c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ite aziendali e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summer school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clusiva (scambio tra scu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collaborazione con Rete Rurale N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429160" indent="-359712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03360" y="1035000"/>
            <a:ext cx="749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Comunicazione a supporto di Leader e G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1320" y="2313000"/>
            <a:ext cx="779472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Supporto ai GA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seguire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linee di comunicazione comu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particolare per comunicazione web e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esura di linee guida e supporto dedicato ad ogni 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izzazione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materi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muni sul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</a:rPr>
              <a:t>ruolo del FEAS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la misura 19 per distribuzione sul territorio tramite i 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ità che richiamano il ruolo di regia regionale nel progetto Lea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r nell’autonomia e specificità della comunicazione territo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429160" indent="-359712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63720" y="1035000"/>
            <a:ext cx="749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Pagine redazionali su stampa loc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41320" y="2313000"/>
            <a:ext cx="77947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ità informativa coordinata con FSE e FE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ue uscite di pagine pubbliredazionali informative su tutte le testate locali piemontesi su attuazione e novità P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glio divulgativo per parlare a tutti i let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ista analoga azione su emittenti televisive locali e testate o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429160" indent="-359712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6384960"/>
            <a:ext cx="357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25760" y="1236600"/>
            <a:ext cx="731808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SOCIAL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6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Attivazione pagine “PSR Regione Piemonte” s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61"/>
              </a:lnSpc>
              <a:buClr>
                <a:srgbClr val="008000"/>
              </a:buClr>
              <a:buSzPct val="70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Fac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61"/>
              </a:lnSpc>
              <a:buClr>
                <a:srgbClr val="008000"/>
              </a:buClr>
              <a:buSzPct val="70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Tw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61"/>
              </a:lnSpc>
              <a:buClr>
                <a:srgbClr val="008000"/>
              </a:buClr>
              <a:buSzPct val="70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Inst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6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Contenuti: informazioni sui bandi, eventi, best practices, prodotti e attività di comunic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6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Rivolti sia al mondo agricolo, sia ai cittadi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98400" y="2751120"/>
            <a:ext cx="215928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51000" y="1035000"/>
            <a:ext cx="749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In cantiere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1320" y="2313000"/>
            <a:ext cx="779472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Raccolta best practices PSR: video interviste ai protagonisti, beneficiari PSR, prima e dopo l’intervento del P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progetto a largo raggio, esteso sul territorio, trien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 numerosi possibili utilizzi del mat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Repertorio fotografico di immagini aggiornate e specifiche sul P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Attività di animazione itinerante sul terr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Campagna affissioni e mezzi in mo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4000" y="6384960"/>
            <a:ext cx="357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14440" y="1162080"/>
            <a:ext cx="6969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Cont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408000"/>
                </a:solidFill>
                <a:latin typeface="Calibri"/>
                <a:ea typeface="Times New Roman"/>
              </a:rPr>
              <a:t>Valentina Archim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408000"/>
                </a:solidFill>
                <a:latin typeface="Calibri"/>
                <a:ea typeface="Times New Roman"/>
              </a:rPr>
              <a:t>valentina.archimede@regione.piemonte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408000"/>
                </a:solidFill>
                <a:latin typeface="Calibri"/>
                <a:ea typeface="Times New Roman"/>
              </a:rPr>
              <a:t>Andrea Mar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408000"/>
                </a:solidFill>
                <a:latin typeface="Calibri"/>
                <a:ea typeface="Times New Roman"/>
              </a:rPr>
              <a:t>andrea.marelli@regione.piemonte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408000"/>
                </a:solidFill>
                <a:latin typeface="Calibri"/>
                <a:ea typeface="Times New Roman"/>
              </a:rPr>
              <a:t>Grazi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1035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8000"/>
                </a:solidFill>
                <a:latin typeface="Arial"/>
              </a:rPr>
              <a:t>I nostri obiettiv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15920" y="150012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9f4f24"/>
                </a:solidFill>
                <a:latin typeface="Arial"/>
              </a:rPr>
              <a:t>A chi e perchè comunichi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680" y="2568600"/>
            <a:ext cx="4324320" cy="2832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855880"/>
            <a:ext cx="3073320" cy="26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favorire l’accesso alle informazion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ccesso ai band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e opportunità offerte dal Progr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2568600"/>
            <a:ext cx="4343400" cy="2752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7480" y="2855880"/>
            <a:ext cx="324324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ondividere il senso delle politiche agricole 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gricol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bene comu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produce effetti positivi per la colle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6400" y="209088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 mondo ru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16560" y="209556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i citta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44520" y="131760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Arial"/>
              </a:rPr>
              <a:t>Mondo ru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Arial"/>
              </a:rPr>
              <a:t>I nostri canali aper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42840" y="1920960"/>
            <a:ext cx="7794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35200" y="3362400"/>
            <a:ext cx="1892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6384960"/>
            <a:ext cx="357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793800"/>
            <a:ext cx="741528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            </a:t>
            </a: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PORTALE WEB “SVILUPPO RURAL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8720">
              <a:lnSpc>
                <a:spcPts val="2974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Si trovano il testo completo del PS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720">
              <a:lnSpc>
                <a:spcPts val="297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le informazioni sui bandi e le graduatorie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720">
              <a:lnSpc>
                <a:spcPts val="297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i documenti di monitoraggio e valutazione, materiali di comunicazione e approfondi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720">
              <a:lnSpc>
                <a:spcPts val="297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E’ la base informativa istituzionale verso l’est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49840" y="4389480"/>
            <a:ext cx="418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9f4f24"/>
                </a:solidFill>
                <a:latin typeface="Arial"/>
              </a:rPr>
              <a:t>www.regione.piemonte.it/ag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15320" y="4867200"/>
            <a:ext cx="904680" cy="109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6360" y="3600360"/>
            <a:ext cx="4073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6384960"/>
            <a:ext cx="357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4720" y="82080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1240" indent="-284040">
              <a:lnSpc>
                <a:spcPts val="396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RIVISTA “QUADERNI AGRICOLTUR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6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          </a:t>
            </a: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E MAGAZINE ON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8720">
              <a:lnSpc>
                <a:spcPts val="396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Da 40 anni «voce» della Direzione Agricoltura verso il mondo agricolo. Rinnovata nella veste grafica e nel taglio editoria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00320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2 numeri/anno in 70.000 c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00320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documentazione e approfon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00320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invio gratuito a tutte le azie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00320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720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Affiancata da un magazine on line,                                                                           arricchito di multime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3848040"/>
            <a:ext cx="381636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6384960"/>
            <a:ext cx="357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84360" y="863640"/>
            <a:ext cx="723276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NEWSLETTER “AGRICOLTURA NEWS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Newsletter mensile che informa tempestivamente sui bandi, le opportunità, gli eventi relativi al PS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408000"/>
                </a:solidFill>
                <a:latin typeface="Calibri"/>
                <a:ea typeface="MS PGothic"/>
              </a:rPr>
              <a:t>5.000 contatti, soprattutto stak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Ci si puo’ registrare sul sito www.regione.piemonte.it/ag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25800" y="4775040"/>
            <a:ext cx="58291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4000" y="6384960"/>
            <a:ext cx="357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879480"/>
            <a:ext cx="723276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SERVIZIO INFO SMS E CONTACT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buClr>
                <a:srgbClr val="99ff66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Servizio informativo via sms per aziende agri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Informazioni sintetiche su apertura e chiusura ba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31.000 contatti cellul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Invio periodico secondo necess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Servizio gratuito, gestito insieme al Contact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collegato a numero verde regionale 800 3334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fornisce informazioni su pagamenti e mi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1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16875" t="0" r="16338" b="0"/>
          <a:stretch/>
        </p:blipFill>
        <p:spPr>
          <a:xfrm>
            <a:off x="784080" y="2502000"/>
            <a:ext cx="187344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6384960"/>
            <a:ext cx="357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77960" y="896760"/>
            <a:ext cx="66042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BROCHURE “GUIDA AL PSR 2014-2020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Sintesi agile di tutte le misure del Programma, illustrate per punti foc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QUA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PERCH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1400" y="1881360"/>
            <a:ext cx="304488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384960"/>
            <a:ext cx="357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35240" y="770040"/>
            <a:ext cx="660888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6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Arial"/>
                <a:ea typeface="Times New Roman"/>
              </a:rPr>
              <a:t>VIDEO INFOGRAFI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7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7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Serie di 12 brevi video per comunicare in sin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7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i principali temi e misure del PS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7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attraverso grafica e ic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72"/>
              </a:lnSpc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4 su UE, PAC e P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72"/>
              </a:lnSpc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4 sulle “famiglie” di mi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72"/>
              </a:lnSpc>
              <a:buClr>
                <a:srgbClr val="008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4 focus su agroambiente (per settore produttiv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7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ts val="347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Calibri"/>
                <a:ea typeface="Times New Roman"/>
              </a:rPr>
              <a:t>Disponibili sul sito istituzionale, sul canale youtube Regione Piemonte, sulla chiavetta P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09560" y="2108160"/>
            <a:ext cx="2825640" cy="163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46280" y="4119480"/>
            <a:ext cx="2828880" cy="1631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19:21Z</dcterms:created>
  <dc:creator>Sara Bigazzi</dc:creator>
  <dc:description/>
  <dc:language>en-US</dc:language>
  <cp:lastModifiedBy/>
  <dcterms:modified xsi:type="dcterms:W3CDTF">2017-10-25T13:29:05Z</dcterms:modified>
  <cp:revision>137</cp:revision>
  <dc:subject/>
  <dc:title>Diapositiva 1</dc:title>
</cp:coreProperties>
</file>