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3/10/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60851-9304-460E-944F-F5A5774525D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0EAA3-E207-4DB6-A877-6AE6575DBD5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1D9D7-EE55-4C0A-BBE7-88D22C46774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44787-F328-49ED-8210-0C76E89087D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FB3F5-B76B-4124-B61C-EC04C28A324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CC8DF-4792-40D0-8D74-92BA1D23E57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97674-2E75-493A-A659-6ECDAE7A795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C12DA-EA28-49B5-A35D-D2A04E0F5D7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F1FF3-ACF0-4FDD-A8A5-4374871D8ED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0ECEE-C6F6-4874-AFD6-8A58A5F0EAA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BB08C-9C8E-4644-8211-2B56ECFE08E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161E8-AE7E-4CAB-A25E-5CAA19CC68B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17FF8-BD42-4B98-AE57-22644757111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65AC4-7F1E-4F6B-85ED-12BD6B918CB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068D4-4A1D-419E-9786-E7CF064D28B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3A912-5733-48F5-8733-274BBBADE1A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781668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66520" y="4317480"/>
            <a:ext cx="781668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1880" y="23428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66520" y="43174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1880" y="43174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251676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2342880"/>
            <a:ext cx="251676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2400" y="2342880"/>
            <a:ext cx="251676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66520" y="4317480"/>
            <a:ext cx="251676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4317480"/>
            <a:ext cx="251676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2400" y="4317480"/>
            <a:ext cx="251676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66520" y="2342880"/>
            <a:ext cx="781668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7816680" cy="37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4200" cy="37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1880" y="2342880"/>
            <a:ext cx="3814200" cy="37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66880" y="1390320"/>
            <a:ext cx="745488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880" y="2342880"/>
            <a:ext cx="3814200" cy="37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66520" y="43174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4200" cy="37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880" y="23428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1880" y="43174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1880" y="23428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66520" y="4317480"/>
            <a:ext cx="781668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6520" y="2342880"/>
            <a:ext cx="7816680" cy="37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6375240"/>
            <a:ext cx="24922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7920" y="6384600"/>
            <a:ext cx="308304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52600" y="6334200"/>
            <a:ext cx="8591400" cy="1440"/>
          </a:xfrm>
          <a:prstGeom prst="line">
            <a:avLst/>
          </a:prstGeom>
          <a:ln cap="sq"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9600" y="38160"/>
            <a:ext cx="1322640" cy="1593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561960" y="1676160"/>
            <a:ext cx="1440" cy="4660920"/>
          </a:xfrm>
          <a:prstGeom prst="line">
            <a:avLst/>
          </a:prstGeom>
          <a:ln cap="sq"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741240"/>
            <a:ext cx="8001000" cy="1800"/>
          </a:xfrm>
          <a:prstGeom prst="line">
            <a:avLst/>
          </a:prstGeom>
          <a:ln cap="sq"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rcRect l="0" t="0" r="0" b="19413"/>
          <a:stretch/>
        </p:blipFill>
        <p:spPr>
          <a:xfrm>
            <a:off x="5845320" y="162000"/>
            <a:ext cx="882360" cy="4762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6762600" y="171360"/>
            <a:ext cx="1257480" cy="4017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5"/>
          <a:srcRect l="8022" t="11796" r="17650" b="7622"/>
          <a:stretch/>
        </p:blipFill>
        <p:spPr>
          <a:xfrm>
            <a:off x="8147160" y="117360"/>
            <a:ext cx="66672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58760" y="2268360"/>
            <a:ext cx="76456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97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500" spc="-1" strike="noStrike">
                <a:solidFill>
                  <a:srgbClr val="008000"/>
                </a:solidFill>
                <a:latin typeface="Arial"/>
              </a:rPr>
              <a:t>La valutazione del PSR 2014-202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54200" y="3063960"/>
            <a:ext cx="6013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7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000" spc="-1" strike="noStrike">
                <a:solidFill>
                  <a:srgbClr val="9f4f24"/>
                </a:solidFill>
                <a:latin typeface="Arial"/>
              </a:rPr>
              <a:t>Facciamo il pu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7480" y="4340160"/>
            <a:ext cx="6686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7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9f4f24"/>
                </a:solidFill>
                <a:latin typeface="Arial"/>
              </a:rPr>
              <a:t>Stefano Aimone – IRES Piem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262400" y="4930920"/>
            <a:ext cx="757440" cy="8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Le attività svolte e in cor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5920" y="2212920"/>
            <a:ext cx="7620120" cy="35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fronto tecnico con referenti di misura, CSI, IPLA, ARPEA su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lementazione del monitora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Risposte ai quesiti valutativi per AIR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sseminazione valutazione PSR 2007-2013 (articoli e semina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Disegno di valutazione del PS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(in fase di realizza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alisi sui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fabbisogni formativ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gli agricoltori (in fase di realizzazione, conclusa a giugno prima par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mbiamenti dello scenario: </a:t>
            </a:r>
            <a:r>
              <a:rPr b="0" i="1" lang="it-IT" sz="2000" spc="-1" strike="noStrike">
                <a:solidFill>
                  <a:srgbClr val="669900"/>
                </a:solidFill>
                <a:latin typeface="Arial"/>
              </a:rPr>
              <a:t>Piemonte Rurale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llaborazioni e scambi con la comunità scienti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15920" y="150012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2017: la prima attività valu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I prossimi pas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2257560"/>
            <a:ext cx="71755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Steering grou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riattivazione e confronto sul Disegno di valutazione, temi per le valutazioni tematiche 2018 e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018: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preparazione in vista della AIR 201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analisi tematich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ipotesi: metodologie per la valutazione di Leader, analisi spaziale dell’attuazione delle misure / paesaggio, analisi della delivery di una misura rilevante); pubblicazione d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iemonte Rurale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019: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valutazione intermedi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occasione dell’AIR, analisi tematiche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iemonte Rurale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15920" y="150012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Da oggi al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Sintesi della valutazione AIR 201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42840" y="2060640"/>
            <a:ext cx="7693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fficoltà di risposta a molti quesiti per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modesto stato di avanza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 PSR, maggiori possibilità per misure “continuative” (es. agroambient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Occasione per testar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todologie, criteri di giudizio, indic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Formazione, informazione e consulenz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rivedere la distribuzione delle risorse finanziarie rispetto alle FA (attualmente “flat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levante interesse dei potenziali beneficiari verso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certificazione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n particolare biologico (in coerenza con mercato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Sintesi della valutazione AIR 201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42840" y="2060640"/>
            <a:ext cx="779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arsa adesione alle operazioni utili all’aumento o ripristino di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biodiversità natural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le aree agricole int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vedere il metodo di individuazione delle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HNV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calcolo dell’indicatore corrispondente (in cor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Riduzione input chimic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rilevante il contributo degli “impegni aggiuntivi” e della conversione dei semin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Sintesi della valutazione AIR 201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2297160"/>
            <a:ext cx="7197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erbimenti, conversioni e imboschimenti efficaci per il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sequestro carbon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uoni segnali dall’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agricoltura conservativ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il mantenimento della sostanza organica nel su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generale si evidenzia la necessità di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focalizzare meglio le misure agroambientali su aree ben pre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Sintesi della valutazione AIR 201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541600"/>
            <a:ext cx="7197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LLD Leader: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espans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i territori rispetto a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uon livello di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coerenza delle strategi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ottate nei PSL rispetto all’approccio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Potenziali problemi di governance local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gate alle norme sulla formazione di Unioni di Comu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218592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Grazie per l’atten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3149640"/>
            <a:ext cx="77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Per sapere di più sull’IRES e le sue at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www.ires.piemonte.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0" y="4303800"/>
            <a:ext cx="61920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La soluzione in ho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42840" y="2216160"/>
            <a:ext cx="779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esperienza del PSR 2007-2013 (NUVAL) ha permesso di creare un nucleo di competenza interna all’amministrazione reg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caricando l’IRES queste competenze sono state trasferite e integrate con le capacità di analisi settoriale e territoriale dell’Istit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920" y="150012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Dal NUVAL all’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67200" y="4038480"/>
            <a:ext cx="3070440" cy="2038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4356000"/>
            <a:ext cx="337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…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come nelle gare a staffetta, un rapido passaggio di testimon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La soluzione in ho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15920" y="2060640"/>
            <a:ext cx="7467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RES Piemonte è nato nel 1958 ed è un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ente strumental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a Regione Piemo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occupa di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ricerc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campo socio-economico e territoriale, a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supporto del governo regional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delle altre istituzioni locali piemont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 oltre due decenni ha introdotto il tema della valutazione nella PA piemont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Con la revisione nel 2016 della legge istitutiva, il focus sulla valutazione è stato rafforz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15920" y="150012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Perché l’I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La soluzione in ho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15920" y="2284560"/>
            <a:ext cx="7328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formula in house aumenta le possibilità di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consolidare competenz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valutative locali e favorire il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dialog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 l’Autorità di gestione, la Regione e gli stakeh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RES è incaricato di valutare anche i POR FESR e FSE: si punta a una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maggiore integrazione delle valutazioni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mi trasversali, scambio metodolo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15920" y="150012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Integrare le valu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Il gruppo di lavoro I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42840" y="2381400"/>
            <a:ext cx="7794720" cy="31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coordinatore responsa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4 ricercatori / valutatori full tim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competenze distribuite (metodologie di valutazione, competenza tematica, esperienza di comunica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1 consulente metodologico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 alto profilo (part-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Cabina di regi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le attività di valutazione (Direttore IRES, responsabili della valutazione di PSR, FESR, FSE, con la partecipazione di esper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15920" y="150012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Task force” PSR e Cabina di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I partner e la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93760" y="2421000"/>
            <a:ext cx="726444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Partner con funzione di monitoragg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IPLA (monitoraggio ambientale), CSI (sistema informativo) ARPEA (informazioni su attua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pporti con la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comunità scientific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RRN, CREA, IRCRES-CNR, Atenei, valutatori di altre Reg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Steering grou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organismo di governance, sede di confronto, indirizzo e validazione a scala locale delle attività di valu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5920" y="150012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Lavorare in 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I riferimenti normativi e tecni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15920" y="150012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Dove si trovano le “regole” da segu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487600"/>
            <a:ext cx="72262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Regolame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uropei di base e attu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Piano di valutazio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 PSR 2014-2020 della Regione Piemo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Linee guid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dotte dall’European Hepldesk per la valutazione dello sviluppo ru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Worksho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metodologici (RRN, EH, iniziative IRES o altri soggetti scientifici e istituzion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Le attività svolte e in cor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42840" y="2317680"/>
            <a:ext cx="74646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finizione di un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percorso di lavoro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urien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Attività valutative obbligatorie + analisi tematich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acol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Integrazione tra valutazione e attività di ricerc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cambiament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o scenario, nuovi rischi e opportunità…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un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ività trasversali con valutazione POR FESR e POR F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fronto con i decisori e gli stakeh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15920" y="150012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Il metod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Le attività svolte e in cor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15920" y="2212920"/>
            <a:ext cx="762012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iano di attività, incarico e strutturazione de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ime verifiche sul sistema di monitora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alisi dei documenti-g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cumento di lavoro “</a:t>
            </a:r>
            <a:r>
              <a:rPr b="0" i="1" lang="it-IT" sz="2000" spc="-1" strike="noStrike">
                <a:solidFill>
                  <a:srgbClr val="669900"/>
                </a:solidFill>
                <a:latin typeface="Arial"/>
              </a:rPr>
              <a:t>PSR 2014-2020 della Regione Piemonte: analisi della logica di interve</a:t>
            </a:r>
            <a:r>
              <a:rPr b="0" lang="it-IT" sz="2000" spc="-1" strike="noStrike">
                <a:solidFill>
                  <a:srgbClr val="669900"/>
                </a:solidFill>
                <a:latin typeface="Arial"/>
              </a:rPr>
              <a:t>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” passo preliminare per affrontare AIR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ributo alla valutazione ex ante per gli Strumenti finanzi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mbiamenti dello scenario: </a:t>
            </a:r>
            <a:r>
              <a:rPr b="0" i="1" lang="it-IT" sz="2000" spc="-1" strike="noStrike">
                <a:solidFill>
                  <a:srgbClr val="669900"/>
                </a:solidFill>
                <a:latin typeface="Arial"/>
              </a:rPr>
              <a:t>Piemonte Rurale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15920" y="150012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2016: preparazione e avv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9:19:21Z</dcterms:created>
  <dc:creator>Sara Bigazzi</dc:creator>
  <dc:description/>
  <dc:language>en-US</dc:language>
  <cp:lastModifiedBy/>
  <dcterms:modified xsi:type="dcterms:W3CDTF">2017-10-24T10:08:49Z</dcterms:modified>
  <cp:revision>103</cp:revision>
  <dc:subject/>
  <dc:title>Diapositiva 1</dc:title>
</cp:coreProperties>
</file>