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3851280" y="-360"/>
            <a:ext cx="29354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0000" cy="371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3851280" y="9429480"/>
            <a:ext cx="29354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FD2AF-D957-483C-AD66-218CA42D48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59790-021E-4680-BC6E-4C90EF7D21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DAA6F-0B1B-41C7-8CDF-A248C6825A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AA2C1-348D-4B9C-918C-ED38BB267E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72D97-AA52-47DD-8155-CBBF4209E78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A1CB0-37F4-4A62-B43F-A4CF1E21BE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546C4-5263-4DAE-B9F6-71FE69781E3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82D43-7D05-41DE-A544-AB3C262774E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F6273-8A9D-49E2-B203-1460AE9044C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0E718-A159-49AE-820F-31958A810D9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567B2-4E0A-47BA-8FA3-CF4FFD76986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98AB7-4C52-4681-999C-A4AB348542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D83B0-43FB-43F9-AF13-88748B27A1D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679320" y="4714920"/>
            <a:ext cx="543240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67629-5666-4BD1-83A8-71C0CC57CB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679320" y="4714920"/>
            <a:ext cx="543240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DCE97-AE5A-441F-8730-84A3205D9A6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9D20B-0DB3-4518-A227-C806304B11A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51AC8-AB8F-44C3-872C-B094A596BD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93D31-8FDE-4DE2-9F20-1D5D05A960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087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520" y="4313160"/>
            <a:ext cx="78087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5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79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6760" y="234288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47360" y="234288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520" y="431316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6760" y="431316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47360" y="431316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520" y="2342880"/>
            <a:ext cx="780876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0876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880" y="1390320"/>
            <a:ext cx="744696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5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79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520" y="4313160"/>
            <a:ext cx="78087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520" y="2342880"/>
            <a:ext cx="780876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6375240"/>
            <a:ext cx="24843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600"/>
            <a:ext cx="3075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2600" y="6334200"/>
            <a:ext cx="8591400" cy="144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561960" y="1668240"/>
            <a:ext cx="1440" cy="467676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741240"/>
            <a:ext cx="8001000" cy="180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0" b="19402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rcRect l="8019" t="11778" r="17642" b="7644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24080" y="2359080"/>
            <a:ext cx="7086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500" spc="-1" strike="noStrike">
                <a:solidFill>
                  <a:srgbClr val="008000"/>
                </a:solidFill>
                <a:latin typeface="Arial"/>
              </a:rPr>
              <a:t>Quadro di attuazione degli interventi PSR 2014-2020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5029200"/>
            <a:ext cx="668664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1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9f4f24"/>
                </a:solidFill>
                <a:latin typeface="Arial"/>
              </a:rPr>
              <a:t>Gaudenzio De Pao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41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9f4f24"/>
                </a:solidFill>
                <a:latin typeface="Arial"/>
              </a:rPr>
              <a:t>Autorità di Gestione PSR 2014-20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2117880"/>
            <a:ext cx="600696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669900"/>
                </a:solidFill>
                <a:latin typeface="Arial"/>
              </a:rPr>
              <a:t>Grazie per l’attenzi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gione Piemonte Direzione Agrico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rso Stati Uniti 21 10128 Tor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psr@regione.piemonte.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440" y="6384960"/>
            <a:ext cx="249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Dotazione finanziaria PS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42840" y="2722680"/>
            <a:ext cx="779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0600" y="2757600"/>
            <a:ext cx="65628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4280" y="64296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CRONOPROGRAMMA BAND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71946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83808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FOCUS BANDI G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455840"/>
          <a:ext cx="6705720" cy="47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55840"/>
                    <a:ext cx="670572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76212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ANDAMENTO FINANZIARIO al 23 ottobre 201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42840" y="2624040"/>
            <a:ext cx="779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8178840" cy="371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 rot="10800000">
            <a:off x="642600" y="5661000"/>
            <a:ext cx="8286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Per le domande pluriennali M10 e M 11 ( in rosso) si tratta di domande ammissibili con stima di importo ammissibile plurienn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71424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Stato dei pagamen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66640" y="1420920"/>
            <a:ext cx="8369280" cy="48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78588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Disimpegno automatico al 31.12.201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85920"/>
            <a:ext cx="7372440" cy="48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Disimpegno automatico N+3 (2019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85880" y="2571840"/>
            <a:ext cx="803736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Criticità incont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828800"/>
            <a:ext cx="779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tardo nell’approvazione del PS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attamento del sistema informativo al nuovo PS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organizzazione dell’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fficile applicazione di taluni criteri di sele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plessità relative a comunicazioni e notifiche Aiuti di St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/>
  <cp:lastPrinted>2017-10-09T08:37:43Z</cp:lastPrinted>
  <dcterms:modified xsi:type="dcterms:W3CDTF">2018-01-09T13:04:46Z</dcterms:modified>
  <cp:revision>363</cp:revision>
  <dc:subject/>
  <dc:title>Diapositiva 1</dc:title>
</cp:coreProperties>
</file>