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dt" idx="5"/>
          </p:nvPr>
        </p:nvSpPr>
        <p:spPr>
          <a:xfrm>
            <a:off x="3851280" y="-360"/>
            <a:ext cx="29354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  <a:ea typeface="Segoe UI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0000" cy="3711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3851280" y="9429480"/>
            <a:ext cx="29354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FDB70-3D21-4072-B1E2-A9B5F744868A}" type="slidenum">
              <a:rPr b="0" lang="it-IT" sz="12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5128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50C83-C9A5-4113-BB77-19C52157AC0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02491-3807-47E6-A24E-AE85F10F6EC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51280" y="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5128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A6A33-EA4F-484E-844F-9D301A7988B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8134C-5640-496C-87BD-3B3ADE0954B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51280" y="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5128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5DA11-AE75-4096-964F-0C5A7351208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1578D-F7C0-463F-AF21-C5E2938F4EA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51280" y="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5128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6FC9A-F7E1-4D7E-B7E7-2C37C82DEC8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D9641-89D3-4DF6-885C-A3590E31C5D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51280" y="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5128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3574E-DB5E-4C78-9F82-FB076AD30D0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ABBC9-B3D5-4432-8760-8DDE3701037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5128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32CD8-9169-439A-B38B-CCEA793D098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7BC15-A0CC-4D32-89DA-46F8F93E1E1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51280" y="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5128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819A7-196F-4579-A7BF-37FBC4CD493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CA727-559C-4CB5-9E0D-5AA12AA9B8D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51280" y="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5128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74C5B-F016-4427-AD5F-204D9FC71E2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41E5B-9A23-4082-B41C-97806518E6C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51280" y="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5128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5CA78-1E79-468C-ACEE-AF131227A09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Garamond Premr Pro"/>
              </a:rPr>
              <a:t>Modello slide con testo e con più di un’immagine/grafico/tabella. Inserire il testo con dimensione minima 23 punti – carattere Garamond Premr Pro in nero per il testo semplice. . Per le immagini, i grafici e le tabella lo stile è libero, purché leggibi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48287-193C-49DD-95DC-52505FA721A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51280" y="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5128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D5AD7-D0C9-485E-BBC1-8E81CB4D1BE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248FD-205D-4AEA-AD35-9CD3814F456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51280" y="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5128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25121-3E94-4289-9072-A5B67EE7BEF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119D9-7E7C-49AE-BD81-25A47070DB6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51280" y="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5128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A5C42-4640-4120-B3F8-C741662BA6F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5C50F-71B7-4743-8157-F54CC7A6FE7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5128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D3E0E-3375-44A7-8986-E76CB59C2A7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1AFD8-1E97-49EB-BCD4-C661E437C5C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1280" y="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5128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A62C6-592D-442E-B106-54BBED7D07F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27F01-999D-4946-A627-C4FF6F2F7DA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F7830-7D6C-4357-B3A0-705A8DF9D7D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94E99-DE52-4B17-9665-DA9DFCCC3DE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1280" y="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5128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85969-3252-4802-BCB4-51417E07440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BD009-4090-4724-8141-B59980231C6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51280" y="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5128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0727A-4671-4DC1-A35C-C4F18E53899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5685E-A61A-4B48-8C0A-0081A19F89B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10/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5128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EA1B9-07C7-4962-BFF9-341B6134A9E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78087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66520" y="4313160"/>
            <a:ext cx="78087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67920" y="234288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66520" y="431316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67920" y="431316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25142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6760" y="2342880"/>
            <a:ext cx="25142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47360" y="2342880"/>
            <a:ext cx="25142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66520" y="4313160"/>
            <a:ext cx="25142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6760" y="4313160"/>
            <a:ext cx="25142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47360" y="4313160"/>
            <a:ext cx="25142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66520" y="2342880"/>
            <a:ext cx="780876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780876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0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7920" y="2342880"/>
            <a:ext cx="3810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66880" y="1390320"/>
            <a:ext cx="744696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67920" y="2342880"/>
            <a:ext cx="3810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66520" y="431316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66520" y="2342880"/>
            <a:ext cx="780876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0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67920" y="234288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67920" y="431316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7920" y="234288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66520" y="4313160"/>
            <a:ext cx="78087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78087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66520" y="4313160"/>
            <a:ext cx="78087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67920" y="234288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66520" y="431316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67920" y="431316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25142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6760" y="2342880"/>
            <a:ext cx="25142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47360" y="2342880"/>
            <a:ext cx="25142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66520" y="4313160"/>
            <a:ext cx="25142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06760" y="4313160"/>
            <a:ext cx="25142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47360" y="4313160"/>
            <a:ext cx="25142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780876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0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7920" y="2342880"/>
            <a:ext cx="3810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66880" y="1390320"/>
            <a:ext cx="744696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7920" y="2342880"/>
            <a:ext cx="3810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66520" y="431316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0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7920" y="234288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67920" y="431316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7920" y="2342880"/>
            <a:ext cx="38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66520" y="4313160"/>
            <a:ext cx="78087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6520" y="2342880"/>
            <a:ext cx="780876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6375240"/>
            <a:ext cx="24843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1100" spc="-1" strike="noStrike">
                <a:solidFill>
                  <a:srgbClr val="008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Times New Roman"/>
                <a:ea typeface="Segoe UI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7920" y="6384600"/>
            <a:ext cx="3075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1100" spc="-1" strike="noStrike">
                <a:solidFill>
                  <a:srgbClr val="008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Times New Roman"/>
                <a:ea typeface="Segoe UI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52600" y="6334200"/>
            <a:ext cx="8591400" cy="1440"/>
          </a:xfrm>
          <a:prstGeom prst="line">
            <a:avLst/>
          </a:prstGeom>
          <a:ln cap="sq"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9600" y="38160"/>
            <a:ext cx="1322640" cy="1593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561960" y="1668240"/>
            <a:ext cx="1440" cy="4676760"/>
          </a:xfrm>
          <a:prstGeom prst="line">
            <a:avLst/>
          </a:prstGeom>
          <a:ln cap="sq"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741240"/>
            <a:ext cx="8001000" cy="1800"/>
          </a:xfrm>
          <a:prstGeom prst="line">
            <a:avLst/>
          </a:prstGeom>
          <a:ln cap="sq"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rcRect l="0" t="0" r="0" b="19413"/>
          <a:stretch/>
        </p:blipFill>
        <p:spPr>
          <a:xfrm>
            <a:off x="5845320" y="162000"/>
            <a:ext cx="882360" cy="4762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6762600" y="171360"/>
            <a:ext cx="1257480" cy="4017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5"/>
          <a:srcRect l="8022" t="11796" r="17650" b="7622"/>
          <a:stretch/>
        </p:blipFill>
        <p:spPr>
          <a:xfrm>
            <a:off x="8147160" y="117360"/>
            <a:ext cx="666720" cy="5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46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66520" y="2342880"/>
            <a:ext cx="780876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75920" y="6375240"/>
            <a:ext cx="24843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1100" spc="-1" strike="noStrike">
                <a:solidFill>
                  <a:srgbClr val="008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Times New Roman"/>
                <a:ea typeface="Segoe UI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5857920" y="6384600"/>
            <a:ext cx="3075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1100" spc="-1" strike="noStrike">
                <a:solidFill>
                  <a:srgbClr val="008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Times New Roman"/>
                <a:ea typeface="Segoe UI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2600" y="6334200"/>
            <a:ext cx="8591400" cy="1440"/>
          </a:xfrm>
          <a:prstGeom prst="line">
            <a:avLst/>
          </a:prstGeom>
          <a:ln cap="sq"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600" y="38160"/>
            <a:ext cx="1322640" cy="1593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561960" y="1668240"/>
            <a:ext cx="1440" cy="4676760"/>
          </a:xfrm>
          <a:prstGeom prst="line">
            <a:avLst/>
          </a:prstGeom>
          <a:ln cap="sq"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741240"/>
            <a:ext cx="8001000" cy="1800"/>
          </a:xfrm>
          <a:prstGeom prst="line">
            <a:avLst/>
          </a:prstGeom>
          <a:ln cap="sq"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rcRect l="0" t="0" r="0" b="19413"/>
          <a:stretch/>
        </p:blipFill>
        <p:spPr>
          <a:xfrm>
            <a:off x="5845320" y="162000"/>
            <a:ext cx="88236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762600" y="171360"/>
            <a:ext cx="1257480" cy="401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rcRect l="8022" t="11796" r="17650" b="7622"/>
          <a:stretch/>
        </p:blipFill>
        <p:spPr>
          <a:xfrm>
            <a:off x="8147160" y="117360"/>
            <a:ext cx="666720" cy="5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24080" y="1638360"/>
            <a:ext cx="70866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9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8000"/>
                </a:solidFill>
                <a:latin typeface="Arial"/>
              </a:rPr>
              <a:t>Proposte di modifica e criteri di selezion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9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8000"/>
                </a:solidFill>
                <a:latin typeface="Arial"/>
              </a:rPr>
              <a:t>PSR 2014 – 20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9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9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Base giuridic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9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 </a:t>
            </a:r>
            <a:r>
              <a:rPr b="1" lang="it-IT" sz="2000" spc="-1" strike="noStrike" u="sng">
                <a:solidFill>
                  <a:srgbClr val="c0504d"/>
                </a:solidFill>
                <a:uFillTx/>
                <a:latin typeface="Arial"/>
              </a:rPr>
              <a:t>Articolo 11, lettera a) del Regolamento (UE) n. 1305/2013</a:t>
            </a:r>
            <a:r>
              <a:rPr b="1" lang="it-IT" sz="35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9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9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2400" y="5667480"/>
            <a:ext cx="66866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1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9f4f24"/>
                </a:solidFill>
                <a:latin typeface="Arial"/>
              </a:rPr>
              <a:t>Franco Consogno – Settore Programmazione Sviluppo Rur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133640"/>
            <a:ext cx="7493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9: </a:t>
            </a: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Modifiche all’Operazione 10.1.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(variazione sezione foss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42840" y="2387520"/>
            <a:ext cx="779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troduzione della possibilità di realizzare un fosso di dimensioni intermedie (cm 60 x 60) tra l’impegno di base e l’attuale impegno facoltativo, al fine di rendere maggiormente accessibile l’interv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nseguente integrazione del documento giustificativo dei premi e della certific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1133640"/>
            <a:ext cx="7493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10: </a:t>
            </a: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Modifiche all’Operazione 10.1.4 - Azione 1 (ammissibilità delle superfic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42840" y="2387520"/>
            <a:ext cx="779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tensione dell’applicabilità alle superfici già oggetto del ritiro ventennale di seminativi dalla produzione ai sensi del Reg. (CE) n. 2078/1992, al fine di evitare il rischio che alla scadenza di tale impegno le superfici ritirate siano investite a seminativi più impattanti sotto il profilo ambient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846000"/>
            <a:ext cx="74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12: Modifiche all’Operazione 16.2.1 (articolazione in tre azion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84160" y="1479600"/>
            <a:ext cx="815184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rticolazione dell’Operazione in 3 </a:t>
            </a:r>
            <a:r>
              <a:rPr b="1" lang="it-IT" sz="2000" spc="-1" strike="noStrike">
                <a:solidFill>
                  <a:srgbClr val="ff3333"/>
                </a:solidFill>
                <a:latin typeface="Arial"/>
              </a:rPr>
              <a:t>azion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disti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progetti pilota nel settore forest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piattaforma tecnologica bioecono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progetti pilota nelle filiere frutticola, vitivinicola, corilico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serimento di ulteriori principi di selezion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per l’azione 2          grado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complementarietà con il POR FESR,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Azione I.1b.2.2 -  Piattaforma tecnologica bioeconomia (settor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prioritari “Agroalimentare”, “Chimica verde/Cleantech” ed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“Economia circolare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- per l’azione 3          presenza di organismi di ricerca con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disponibilità di campi sperimentali in collaborazione con 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410364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579d1c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24200" y="5427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579d1c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13364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13, 14, 15: Modifiche relative agli Aiuti di Stato per le Operazioni  interessa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42840" y="2168640"/>
            <a:ext cx="7794720" cy="41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serimento nel Capitolo 8.1 (condizioni generali applicate alle misure) di un paragrafo riportante la normativa relativa agli Aiuti di Stato, per le misure che costituiscono regime di aiu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ifiche ai testi delle Operazioni </a:t>
            </a:r>
            <a:r>
              <a:rPr b="1" lang="it-IT" sz="2000" spc="-1" strike="noStrike">
                <a:solidFill>
                  <a:srgbClr val="ff3333"/>
                </a:solidFill>
                <a:latin typeface="Arial"/>
              </a:rPr>
              <a:t>3.2.1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(promozione), </a:t>
            </a:r>
            <a:r>
              <a:rPr b="1" lang="it-IT" sz="2000" spc="-1" strike="noStrike">
                <a:solidFill>
                  <a:srgbClr val="ff3333"/>
                </a:solidFill>
                <a:latin typeface="Arial"/>
              </a:rPr>
              <a:t>4.2.1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(agroindustria), </a:t>
            </a:r>
            <a:r>
              <a:rPr b="1" lang="it-IT" sz="2000" spc="-1" strike="noStrike">
                <a:solidFill>
                  <a:srgbClr val="ff3333"/>
                </a:solidFill>
                <a:latin typeface="Arial"/>
              </a:rPr>
              <a:t>4.3.2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(miglioramento infrastrutturale e fondiario), </a:t>
            </a:r>
            <a:r>
              <a:rPr b="1" lang="it-IT" sz="2000" spc="-1" strike="noStrike">
                <a:solidFill>
                  <a:srgbClr val="ff3333"/>
                </a:solidFill>
                <a:latin typeface="Arial"/>
              </a:rPr>
              <a:t>4.3.4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infrastrutture forestali e pastorali), </a:t>
            </a:r>
            <a:r>
              <a:rPr b="1" lang="it-IT" sz="2000" spc="-1" strike="noStrike">
                <a:solidFill>
                  <a:srgbClr val="ff3333"/>
                </a:solidFill>
                <a:latin typeface="Arial"/>
              </a:rPr>
              <a:t>7.6.1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alpeggi) al fine di adeguarle alla normativa Aiuti di St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ggiornamento nel Capitolo 13 (elementi relativi agli Aiuti di Stato) dei riferimenti normativi e degli importi relativi alle singole mi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1133640"/>
            <a:ext cx="749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16, 18: Correzione refusi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42840" y="2168640"/>
            <a:ext cx="779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apitolo 14 (Informazioni sulla complementarietà): viene corretto un refuso relativo alla demarcazione tra PSR e OCM ortofrut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perazione 16.1.1 (Gruppi Operativi PEI): la definizione di giovane agricoltore viene aggiornata in coerenza con quanto previsto dal Reg. (UE) 1307/2013 e dall’Operazione 6.1.1 (insediamento giovan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113364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19: Operazione 10.1.8 (inserimento nuova razza)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42840" y="2168640"/>
            <a:ext cx="779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lla lista delle razze autoctone minacciate di abbandono viene inserita la razza bovina Bruna Linea Carne (ca. 150 cap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24080" y="1638360"/>
            <a:ext cx="708660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9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9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9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8000"/>
                </a:solidFill>
                <a:latin typeface="Arial"/>
              </a:rPr>
              <a:t>Variazione criteri di selezione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9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8000"/>
                </a:solidFill>
                <a:latin typeface="Arial"/>
              </a:rPr>
              <a:t>PSR 2014 – 20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9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9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6280" y="6384960"/>
            <a:ext cx="249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1093680"/>
            <a:ext cx="74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Operazione 5.1.1 (prevenzione danni biotic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2763720"/>
            <a:ext cx="7794360" cy="22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ALYOMORPH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ROSOPHI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495680" y="2376360"/>
            <a:ext cx="1335240" cy="1214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427640" y="4141800"/>
            <a:ext cx="14396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79640" y="2117880"/>
            <a:ext cx="600696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000" spc="-1" strike="noStrike">
                <a:solidFill>
                  <a:srgbClr val="669900"/>
                </a:solidFill>
                <a:latin typeface="Arial"/>
              </a:rPr>
              <a:t>Grazie per l’attenzi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gione Piemonte Direzione Agricol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rso Stati Uniti 21 10128 Tor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669900"/>
                </a:solidFill>
                <a:latin typeface="Arial"/>
              </a:rPr>
              <a:t>psr@regione.piemonte.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440" y="6384960"/>
            <a:ext cx="249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685800"/>
            <a:ext cx="749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1: Storni di risorse tra Operazion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176480"/>
            <a:ext cx="7391160" cy="51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68580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2, 3: Rimodulazione finanziaria tra priorità (Misure 1 e 2 e 16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65160" y="2711520"/>
            <a:ext cx="779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46200" y="2057400"/>
            <a:ext cx="8305560" cy="35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133640"/>
            <a:ext cx="749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4: Rimodulazione indicatori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2160" y="2019240"/>
            <a:ext cx="7794720" cy="25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asistich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20000"/>
              </a:lnSpc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variazioni dotazione finanziaria mi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20000"/>
              </a:lnSpc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rimodulazioni focus area (M1, M2, M1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20000"/>
              </a:lnSpc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errata valutazione iniziale (T4 - T5 - T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113364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5: Modifiche all’Operazione 8.1.1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(pioppicoltura e costi standard) - </a:t>
            </a:r>
            <a:r>
              <a:rPr b="1" lang="it-IT" sz="2600" spc="-1" strike="noStrike">
                <a:solidFill>
                  <a:srgbClr val="0066cc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42840" y="2378160"/>
            <a:ext cx="779472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rticolazione dell’Operazione in 3 </a:t>
            </a:r>
            <a:r>
              <a:rPr b="1" lang="it-IT" sz="2000" spc="-1" strike="noStrike">
                <a:solidFill>
                  <a:srgbClr val="ff3333"/>
                </a:solidFill>
                <a:latin typeface="Arial"/>
              </a:rPr>
              <a:t>azion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disti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arboricoltura da legno a ciclo bre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arboricoltura da legno a ciclo medio-lungo (arboricol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a legno e arboricoltura con specie tartufige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bosco perman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84600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5: Modifiche all’Operazione 8.1.1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(pioppicoltura e costi standard) - </a:t>
            </a:r>
            <a:r>
              <a:rPr b="1" lang="it-IT" sz="2600" spc="-1" strike="noStrike">
                <a:solidFill>
                  <a:srgbClr val="0066cc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2160" y="1587600"/>
            <a:ext cx="7794720" cy="44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Variazione regole di ammissibilità ed entità di contributo per la pioppicoltur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20000"/>
              </a:lnSpc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2 classi di contributo (80% e 60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lvl="1" marL="528480" indent="-69840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- 80%           50% cloni MSA oppure 30% cloni MSA +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certificazione Gestione Forestale Sostenib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8480" indent="-69840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- 60%           altri cas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20000"/>
              </a:lnSpc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impianto &gt; 5 ha          miscuglio clon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ifica regole di ammissione per premi annui di mancato reddito per l’azion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5           10 an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324000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579d1c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3440" y="391968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579d1c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3760" y="442584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579d1c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720" y="5724360"/>
            <a:ext cx="503280" cy="287640"/>
          </a:xfrm>
          <a:prstGeom prst="rightArrow">
            <a:avLst>
              <a:gd name="adj1" fmla="val 50000"/>
              <a:gd name="adj2" fmla="val 43742"/>
            </a:avLst>
          </a:prstGeom>
          <a:solidFill>
            <a:srgbClr val="579d1c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133640"/>
            <a:ext cx="7493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5: Modifiche all’Operazione 8.1.1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(pioppicoltura e costi standard) - </a:t>
            </a:r>
            <a:r>
              <a:rPr b="1" lang="it-IT" sz="2600" spc="-1" strike="noStrike">
                <a:solidFill>
                  <a:srgbClr val="0066cc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42840" y="2624040"/>
            <a:ext cx="779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tilizzo dei costi standard ai sensi dell’art. 67, comma 1 lett.  b), e comma 5 lett. a) del Reg. (UE) n. 1303/2013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serimento dei documenti relativi alla metodologia di calcolo e alla certific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113364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6, 7, 8, 11, 17: Inserimento costi standard Operazioni forestali - </a:t>
            </a:r>
            <a:r>
              <a:rPr b="1" lang="it-IT" sz="2600" spc="-1" strike="noStrike">
                <a:solidFill>
                  <a:srgbClr val="0066cc"/>
                </a:solidFill>
                <a:latin typeface="Arial"/>
              </a:rPr>
              <a:t>1</a:t>
            </a:r>
            <a:r>
              <a:rPr b="1" lang="it-IT" sz="2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2400" y="2268360"/>
            <a:ext cx="819144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perazioni </a:t>
            </a:r>
            <a:r>
              <a:rPr b="1" lang="it-IT" sz="2000" spc="-1" strike="noStrike">
                <a:solidFill>
                  <a:srgbClr val="ff3333"/>
                </a:solidFill>
                <a:latin typeface="Arial"/>
              </a:rPr>
              <a:t>8.3.1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ff3333"/>
                </a:solidFill>
                <a:latin typeface="Arial"/>
              </a:rPr>
              <a:t>8.4.1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000" spc="-1" strike="noStrike">
                <a:solidFill>
                  <a:srgbClr val="ff3333"/>
                </a:solidFill>
                <a:latin typeface="Arial"/>
              </a:rPr>
              <a:t>8.5.1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 utilizzo dei costi standard ai sensi dell’art. 67, comma 1 lett. 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 comma 5 lett. a) del Reg. (UE) n. 1303/2013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 inserimento dei documenti relativi alla metodologia di calcol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 alla certific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perazione </a:t>
            </a:r>
            <a:r>
              <a:rPr b="1" lang="it-IT" sz="2000" spc="-1" strike="noStrike">
                <a:solidFill>
                  <a:srgbClr val="ff3333"/>
                </a:solidFill>
                <a:latin typeface="Arial"/>
              </a:rPr>
              <a:t>16.6.1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 applicazione della sovvenzione forfettaria (15.000 euro) a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nsi dell’art. 67, comma 1 lett. c) del Reg. (UE) n. 1303/2013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 inserimento dei documenti relativi alla metodologia di calcol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 alla certific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133640"/>
            <a:ext cx="749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6, 7, 8, 11, 17: Inserimento costi standard Operazioni forestali - </a:t>
            </a:r>
            <a:r>
              <a:rPr b="1" lang="it-IT" sz="2600" spc="-1" strike="noStrike">
                <a:solidFill>
                  <a:srgbClr val="0066cc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42840" y="2387520"/>
            <a:ext cx="779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isura </a:t>
            </a:r>
            <a:r>
              <a:rPr b="1" lang="it-IT" sz="2000" spc="-1" strike="noStrike">
                <a:solidFill>
                  <a:srgbClr val="ff3333"/>
                </a:solidFill>
                <a:latin typeface="Arial"/>
              </a:rPr>
              <a:t>16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pplicazione del costo standard del lavoro dell'agricoltore e dell’operatore forestale, ai sensi dell’art. 67, comma 1, lett. b) del Reg. (UE) n. 1303/201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769e2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ggiornamento del Capitolo 18 del PSR in merito all’applicazione dei costi standard/somme forfettarie alle varie Operazio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9:19:21Z</dcterms:created>
  <dc:creator>Sara Bigazzi</dc:creator>
  <dc:description/>
  <dc:language>en-US</dc:language>
  <cp:lastModifiedBy/>
  <cp:lastPrinted>2017-10-25T08:07:52Z</cp:lastPrinted>
  <dcterms:modified xsi:type="dcterms:W3CDTF">2017-10-25T10:24:34Z</dcterms:modified>
  <cp:revision>36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2.0.5934</vt:lpwstr>
  </property>
</Properties>
</file>