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A86E4-061B-4754-ABF3-B72936AC07E5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9D828-2170-430A-AE09-2E8402C335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C9761-AE7A-4738-9DBC-9A1E3EAE80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65675-4221-4B50-8A52-45261A227C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BBC50-DB0B-403E-94FC-70675DFA98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59E7A-D41F-4A0E-A345-11420D031D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23604-9044-4A18-9471-5CD5D7838C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29B21-A332-4B27-9318-0306875314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  <a:ea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23C29-3B7B-47E2-99CD-51260CFF36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26 – 27 novembre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%20PSR%2020142020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feasr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regione_piemonte_bianco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logo_Mipaaf_PIC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sellaDiTesto 4"/>
          <p:cNvSpPr/>
          <p:nvPr/>
        </p:nvSpPr>
        <p:spPr>
          <a:xfrm>
            <a:off x="1438200" y="2571840"/>
            <a:ext cx="63914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ATTUAZIONE PSR 2007 –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Arial"/>
              </a:rPr>
              <a:t>AL 23 NOVEMBR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7"/>
          <p:cNvSpPr/>
          <p:nvPr/>
        </p:nvSpPr>
        <p:spPr>
          <a:xfrm>
            <a:off x="638280" y="5257800"/>
            <a:ext cx="668628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7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000" spc="-1" strike="noStrike">
                <a:solidFill>
                  <a:srgbClr val="9f4f24"/>
                </a:solidFill>
                <a:latin typeface="Verdana"/>
                <a:ea typeface="Garamond Premr Pro Smbd It"/>
              </a:rPr>
              <a:t>Franco Consogno – Direzione Agricoltura – Settore Programmazione e Sviluppo rura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7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sellaDiTesto 6"/>
          <p:cNvSpPr/>
          <p:nvPr/>
        </p:nvSpPr>
        <p:spPr>
          <a:xfrm>
            <a:off x="844560" y="1243080"/>
            <a:ext cx="683244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tazione  cofinanziata  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007-201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9f4f24"/>
                </a:solidFill>
                <a:latin typeface="Arial"/>
              </a:rPr>
              <a:t>974 Meuro</a:t>
            </a: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cui trascinamenti: </a:t>
            </a:r>
            <a:r>
              <a:rPr b="1" lang="it-IT" sz="1800" spc="-1" strike="noStrike">
                <a:solidFill>
                  <a:srgbClr val="663300"/>
                </a:solidFill>
                <a:latin typeface="Arial"/>
              </a:rPr>
              <a:t> 101 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cui risorse H.C. + R.P. : </a:t>
            </a:r>
            <a:r>
              <a:rPr b="1" lang="it-IT" sz="1800" spc="-1" strike="noStrike">
                <a:solidFill>
                  <a:srgbClr val="663300"/>
                </a:solidFill>
                <a:latin typeface="Arial"/>
              </a:rPr>
              <a:t>64 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cui risorse fresche ordinarie: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809 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04840" y="3692520"/>
            <a:ext cx="6315120" cy="23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tazione  cofinanziata   </a:t>
            </a: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2014-202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9f4f24"/>
                </a:solidFill>
                <a:latin typeface="Arial"/>
              </a:rPr>
              <a:t>1.094 Meuro</a:t>
            </a: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9f4f24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cui trascinamenti: </a:t>
            </a:r>
            <a:r>
              <a:rPr b="1" lang="it-IT" sz="1800" spc="-1" strike="noStrike">
                <a:solidFill>
                  <a:srgbClr val="663300"/>
                </a:solidFill>
                <a:latin typeface="Arial"/>
              </a:rPr>
              <a:t>15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3300"/>
                </a:solidFill>
                <a:latin typeface="Arial"/>
              </a:rPr>
              <a:t>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&gt;</a:t>
            </a:r>
            <a:r>
              <a:rPr b="1" lang="it-IT" sz="18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cui Banda larga:</a:t>
            </a:r>
            <a:r>
              <a:rPr b="1" lang="it-IT" sz="1800" spc="-1" strike="noStrike">
                <a:solidFill>
                  <a:srgbClr val="663300"/>
                </a:solidFill>
                <a:latin typeface="Arial"/>
              </a:rPr>
              <a:t>  45,5 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              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cui Riserva di performance </a:t>
            </a:r>
            <a:r>
              <a:rPr b="1" lang="it-IT" sz="1800" spc="-1" strike="noStrike">
                <a:solidFill>
                  <a:srgbClr val="804c19"/>
                </a:solidFill>
                <a:latin typeface="Arial"/>
              </a:rPr>
              <a:t>66 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669900"/>
                </a:solidFill>
                <a:latin typeface="Arial"/>
              </a:rPr>
              <a:t>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cui risorse fresche ordinarie: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832,5</a:t>
            </a: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7360" y="1716120"/>
            <a:ext cx="804852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PAGATO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4c19"/>
                </a:solidFill>
                <a:latin typeface="Arial"/>
              </a:rPr>
              <a:t>DA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T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940 ME    (96%)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4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ORD. + TRAS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886 ME   (97%)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,7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H.C.+ R.P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53,5   (83%)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300d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,7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9960" y="1668600"/>
            <a:ext cx="23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4680000"/>
            <a:ext cx="2700000" cy="1260360"/>
          </a:xfrm>
          <a:custGeom>
            <a:avLst/>
            <a:gdLst>
              <a:gd name="textAreaLeft" fmla="*/ 148320 w 2700000"/>
              <a:gd name="textAreaRight" fmla="*/ 2551680 w 2700000"/>
              <a:gd name="textAreaTop" fmla="*/ 148320 h 1260360"/>
              <a:gd name="textAreaBottom" fmla="*/ 1112040 h 1260360"/>
            </a:gdLst>
            <a:ahLst/>
            <a:rect l="textAreaLeft" t="textAreaTop" r="textAreaRight" b="textAreaBottom"/>
            <a:pathLst>
              <a:path w="462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665" y="21600"/>
                </a:lnTo>
                <a:arcTo wR="3600" hR="3600" stAng="10800000" swAng="5400000"/>
                <a:lnTo>
                  <a:pt x="46265" y="3600"/>
                </a:lnTo>
                <a:arcTo wR="3600" hR="3600" stAng="5400000" swAng="5400000"/>
                <a:close/>
              </a:path>
            </a:pathLst>
          </a:cu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700b8"/>
                </a:solidFill>
                <a:latin typeface="Arial"/>
              </a:rPr>
              <a:t>TERMINE PAGA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700b8"/>
                </a:solidFill>
                <a:latin typeface="Arial"/>
              </a:rPr>
              <a:t>31 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599000" y="3419640"/>
            <a:ext cx="1260360" cy="179280"/>
          </a:xfrm>
          <a:prstGeom prst="rightArrow">
            <a:avLst>
              <a:gd name="adj1" fmla="val 50000"/>
              <a:gd name="adj2" fmla="val 1757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99000" y="2972520"/>
            <a:ext cx="1260360" cy="179640"/>
          </a:xfrm>
          <a:prstGeom prst="rightArrow">
            <a:avLst>
              <a:gd name="adj1" fmla="val 50000"/>
              <a:gd name="adj2" fmla="val 17540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99000" y="2498760"/>
            <a:ext cx="1260360" cy="179280"/>
          </a:xfrm>
          <a:prstGeom prst="rightArrow">
            <a:avLst>
              <a:gd name="adj1" fmla="val 50000"/>
              <a:gd name="adj2" fmla="val 1757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317320" y="1066680"/>
            <a:ext cx="418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PERFORMANCE PER 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66680" y="2048040"/>
          <a:ext cx="7299360" cy="3384360"/>
        </p:xfrm>
        <a:graphic>
          <a:graphicData uri="http://schemas.openxmlformats.org/drawingml/2006/table">
            <a:tbl>
              <a:tblPr/>
              <a:tblGrid>
                <a:gridCol w="2265480"/>
                <a:gridCol w="2516040"/>
                <a:gridCol w="2517840"/>
              </a:tblGrid>
              <a:tr h="644400"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 e mi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assoluto                  (Me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nzamento % sulla dotazione di 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44320"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11520" rIns="11520" tIns="468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ura 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5184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64200" y="1182600"/>
            <a:ext cx="4586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6633"/>
                </a:solidFill>
                <a:latin typeface="Arial"/>
              </a:rPr>
              <a:t>ANDAMENTO % PAGAMENTI PER 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790640" y="1892160"/>
          <a:ext cx="5829480" cy="40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0640" y="1892160"/>
                    <a:ext cx="5829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89960" y="925560"/>
            <a:ext cx="276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Garamond Premr Pro Smbd"/>
              </a:rPr>
              <a:t>TRANS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3120" y="182880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  <a:ea typeface="Garamond Premr Pro"/>
              </a:rPr>
              <a:t>PSR 2007 -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1360" y="1757520"/>
            <a:ext cx="2544840" cy="539640"/>
          </a:xfrm>
          <a:prstGeom prst="rightArrowCallout">
            <a:avLst>
              <a:gd name="adj1" fmla="val 50005"/>
              <a:gd name="adj2" fmla="val 25000"/>
              <a:gd name="adj3" fmla="val 8447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3366"/>
                </a:solidFill>
                <a:latin typeface="Arial"/>
              </a:rPr>
              <a:t>150 MEU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67240" y="17575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4bd5e"/>
                </a:solidFill>
                <a:latin typeface="Arial"/>
              </a:rPr>
              <a:t>PSR 2014 -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49400" y="2700360"/>
          <a:ext cx="7381800" cy="3195720"/>
        </p:xfrm>
        <a:graphic>
          <a:graphicData uri="http://schemas.openxmlformats.org/drawingml/2006/table">
            <a:tbl>
              <a:tblPr/>
              <a:tblGrid>
                <a:gridCol w="2458800"/>
                <a:gridCol w="2462400"/>
                <a:gridCol w="2460600"/>
              </a:tblGrid>
              <a:tr h="3031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SR 2007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SR 2014/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MPORTI (MEUR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428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428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464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428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428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14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7620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1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428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428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1608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0640" y="1093680"/>
            <a:ext cx="621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4c19"/>
                </a:solidFill>
                <a:latin typeface="Arial"/>
              </a:rPr>
              <a:t>CRITICITA' </a:t>
            </a:r>
            <a:r>
              <a:rPr b="1" lang="en-US" sz="20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4c1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c2300"/>
                </a:solidFill>
                <a:latin typeface="Arial"/>
              </a:rPr>
              <a:t>TASSO DI ERR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UFFICIENTE INFORMAZIONE DEI BENEFICIARI (REQUISITI BANDO, CONDIZIONI DI ACCESSO, IMPEG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ECUZIONE CONTROLLI (COMPLESSITÀ VERIFICHE       IMPEGNI, EPOCHE SPECIFI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CESSIVO TEMPO  ISTRUTTORIA DOMANDE (CRITERI AMMISSIBILITÀ, CRITERI SELEZ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 PUBBLICI (PROCEDURE APPAL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f4f24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00360" y="1260360"/>
            <a:ext cx="1440000" cy="540000"/>
          </a:xfrm>
          <a:custGeom>
            <a:avLst/>
            <a:gdLst>
              <a:gd name="textAreaLeft" fmla="*/ 266400 w 1440000"/>
              <a:gd name="textAreaRight" fmla="*/ 1085760 w 1440000"/>
              <a:gd name="textAreaTop" fmla="*/ 94680 h 540000"/>
              <a:gd name="textAreaBottom" fmla="*/ 445320 h 540000"/>
            </a:gdLst>
            <a:ahLst/>
            <a:rect l="textAreaLeft" t="textAreaTop" r="textAreaRight" b="textAreaBottom"/>
            <a:pathLst>
              <a:path w="21600" h="21800">
                <a:moveTo>
                  <a:pt x="13404" y="0"/>
                </a:moveTo>
                <a:lnTo>
                  <a:pt x="21600" y="10800"/>
                </a:lnTo>
                <a:lnTo>
                  <a:pt x="13404" y="21800"/>
                </a:lnTo>
                <a:lnTo>
                  <a:pt x="13404" y="17801"/>
                </a:lnTo>
                <a:lnTo>
                  <a:pt x="4000" y="17801"/>
                </a:lnTo>
                <a:lnTo>
                  <a:pt x="4000" y="3799"/>
                </a:lnTo>
                <a:lnTo>
                  <a:pt x="13404" y="3799"/>
                </a:lnTo>
                <a:lnTo>
                  <a:pt x="13404" y="0"/>
                </a:lnTo>
                <a:moveTo>
                  <a:pt x="0" y="3799"/>
                </a:moveTo>
                <a:lnTo>
                  <a:pt x="0" y="17801"/>
                </a:lnTo>
                <a:lnTo>
                  <a:pt x="1000" y="17801"/>
                </a:lnTo>
                <a:lnTo>
                  <a:pt x="1000" y="3799"/>
                </a:lnTo>
                <a:lnTo>
                  <a:pt x="0" y="3799"/>
                </a:lnTo>
                <a:moveTo>
                  <a:pt x="2000" y="3799"/>
                </a:moveTo>
                <a:lnTo>
                  <a:pt x="2000" y="17801"/>
                </a:lnTo>
                <a:lnTo>
                  <a:pt x="3000" y="17801"/>
                </a:lnTo>
                <a:lnTo>
                  <a:pt x="3000" y="3799"/>
                </a:lnTo>
                <a:lnTo>
                  <a:pt x="2000" y="379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79640" y="2117880"/>
            <a:ext cx="60069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669900"/>
                </a:solidFill>
                <a:latin typeface="Arial"/>
              </a:rPr>
              <a:t>Grazie per l’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Piemonte Direzione Agrico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so Stati Uniti 21 10128 To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psr@regione.piemonte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"Agroindustria: Piemonte e Norvegia a confronto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-30 MAGGIO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5-11-25T08:39:13Z</dcterms:modified>
  <cp:revision>90</cp:revision>
  <dc:subject/>
  <dc:title>Diapositiva 1</dc:title>
</cp:coreProperties>
</file>