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C833E-67A4-4622-B74B-58FAE6AC81E4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E550C-3B8B-4C3E-9538-C10A384776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96406-8115-474B-BBE1-3203E6F2EA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D6ED0-C606-4958-83BC-28283A2C3C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26 - 27 novembre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%20PSR%2020142020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easr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regione_piemonte_bianco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logo_Mipaaf_PIC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4"/>
          <p:cNvSpPr/>
          <p:nvPr/>
        </p:nvSpPr>
        <p:spPr>
          <a:xfrm>
            <a:off x="1438200" y="2571840"/>
            <a:ext cx="63914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Quadro di attuazione degli interventi PSR 2014-20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7"/>
          <p:cNvSpPr/>
          <p:nvPr/>
        </p:nvSpPr>
        <p:spPr>
          <a:xfrm>
            <a:off x="1257480" y="4581360"/>
            <a:ext cx="668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  <a:ea typeface="Garamond Premr Pro Smbd It"/>
              </a:rPr>
              <a:t>Gaudenzio De Pa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4"/>
          <p:cNvSpPr/>
          <p:nvPr/>
        </p:nvSpPr>
        <p:spPr>
          <a:xfrm>
            <a:off x="1143000" y="644400"/>
            <a:ext cx="7493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con ripartizione percentuale del bud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5924520"/>
            <a:ext cx="65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somma totale non dà il 100% in quanto parte della dotazione finanziaria è utilizzata per i trascinamenti 2007 -2013. Inoltre per alcune misure si è scelto di tenere da parte una riserva per esigenze non prevedibi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25600" y="1650960"/>
            <a:ext cx="6845400" cy="40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10"/>
          <p:cNvSpPr/>
          <p:nvPr/>
        </p:nvSpPr>
        <p:spPr>
          <a:xfrm>
            <a:off x="1467000" y="1022400"/>
            <a:ext cx="695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2015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640" y="2752560"/>
          <a:ext cx="8163000" cy="24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752560"/>
                    <a:ext cx="81630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0"/>
          <p:cNvSpPr/>
          <p:nvPr/>
        </p:nvSpPr>
        <p:spPr>
          <a:xfrm>
            <a:off x="1467000" y="888840"/>
            <a:ext cx="695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2015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0720" y="2181240"/>
            <a:ext cx="801360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10"/>
          <p:cNvSpPr/>
          <p:nvPr/>
        </p:nvSpPr>
        <p:spPr>
          <a:xfrm>
            <a:off x="1467000" y="888840"/>
            <a:ext cx="695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2015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3320" y="2082960"/>
            <a:ext cx="8169480" cy="349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sellaDiTesto 10"/>
          <p:cNvSpPr/>
          <p:nvPr/>
        </p:nvSpPr>
        <p:spPr>
          <a:xfrm>
            <a:off x="1467000" y="888840"/>
            <a:ext cx="695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2015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5320" y="1895400"/>
            <a:ext cx="8237520" cy="42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10"/>
          <p:cNvSpPr/>
          <p:nvPr/>
        </p:nvSpPr>
        <p:spPr>
          <a:xfrm>
            <a:off x="1467000" y="888840"/>
            <a:ext cx="695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Ipotesi di apertura bandi 2015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960" y="1790640"/>
            <a:ext cx="8423280" cy="432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5-11-26T08:07:20Z</dcterms:modified>
  <cp:revision>70</cp:revision>
  <dc:subject/>
  <dc:title>Diapositiva 1</dc:title>
</cp:coreProperties>
</file>