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9A878-D340-46B2-A9B8-75A41FE3A684}" type="datetime">
              <a:rPr b="0" lang="it-IT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60A97-C228-4A60-AD34-5743007533B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CC877-7C0A-49D1-BD26-2C4E1C186D3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8EBF7-EFAA-49A2-993D-1FD61D4CCA6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0E80D-D0BF-4667-A083-8EA0A9375F2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9D966-554B-42D8-8414-88F0698B5A7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44D18-CF35-4C82-971C-9DE0611D64B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CA5ED-79FB-4BDB-BD1F-D75BD4D896E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7A346-B184-4B62-A5A0-D6C0159E4A0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66880" y="431928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04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10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52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668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10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52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66520" y="1390680"/>
            <a:ext cx="74581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04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374880"/>
            <a:ext cx="2495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26 - 27 novembre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52600" y="6334200"/>
            <a:ext cx="85914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9600" y="38160"/>
            <a:ext cx="1322640" cy="1593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561960" y="1679400"/>
            <a:ext cx="0" cy="46548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741240"/>
            <a:ext cx="80010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rcRect l="0" t="0" r="0" b="19413"/>
          <a:stretch/>
        </p:blipFill>
        <p:spPr>
          <a:xfrm>
            <a:off x="5845320" y="162000"/>
            <a:ext cx="882360" cy="4762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6762600" y="171360"/>
            <a:ext cx="1257480" cy="4017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5"/>
          <a:srcRect l="8022" t="11796" r="17650" b="7622"/>
          <a:stretch/>
        </p:blipFill>
        <p:spPr>
          <a:xfrm>
            <a:off x="8147160" y="117360"/>
            <a:ext cx="66672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asellaDiTesto 4"/>
          <p:cNvSpPr/>
          <p:nvPr/>
        </p:nvSpPr>
        <p:spPr>
          <a:xfrm>
            <a:off x="1438200" y="2571840"/>
            <a:ext cx="63914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en-US" sz="3500" spc="-1" strike="noStrike">
                <a:solidFill>
                  <a:srgbClr val="008000"/>
                </a:solidFill>
                <a:latin typeface="Arial"/>
              </a:rPr>
              <a:t>Le agricolture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7"/>
          <p:cNvSpPr/>
          <p:nvPr/>
        </p:nvSpPr>
        <p:spPr>
          <a:xfrm>
            <a:off x="1654200" y="3333600"/>
            <a:ext cx="617544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9f4f24"/>
                </a:solidFill>
                <a:latin typeface="Arial"/>
              </a:rPr>
              <a:t>Linee principal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9f4f24"/>
                </a:solidFill>
                <a:latin typeface="Arial"/>
              </a:rPr>
              <a:t>della strategia di comunic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sellaDiTesto 7"/>
          <p:cNvSpPr/>
          <p:nvPr/>
        </p:nvSpPr>
        <p:spPr>
          <a:xfrm>
            <a:off x="1257480" y="4581360"/>
            <a:ext cx="6686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9f4f24"/>
                </a:solidFill>
                <a:latin typeface="Arial"/>
              </a:rPr>
              <a:t>Valentina Archim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9f4f24"/>
                </a:solidFill>
                <a:latin typeface="Arial"/>
              </a:rPr>
              <a:t>referente piano di comunicazione PS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4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I nostri mon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6"/>
          <p:cNvSpPr/>
          <p:nvPr/>
        </p:nvSpPr>
        <p:spPr>
          <a:xfrm>
            <a:off x="1015920" y="150012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f4f24"/>
                </a:solidFill>
                <a:latin typeface="Arial"/>
              </a:rPr>
              <a:t>A chi comunichia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680" y="2263680"/>
            <a:ext cx="4228920" cy="2232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2263680"/>
            <a:ext cx="4343400" cy="223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61280" y="3159000"/>
            <a:ext cx="15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tad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9800" y="2908440"/>
            <a:ext cx="1575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ic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65440" y="3211560"/>
            <a:ext cx="1574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zia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fici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16200" y="2732040"/>
            <a:ext cx="2895480" cy="160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74840" y="3301920"/>
            <a:ext cx="15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fici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4840" y="3065400"/>
            <a:ext cx="1460520" cy="80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83360" y="4948200"/>
            <a:ext cx="645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ue mondi che potrebbero comunicare di più tra loro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78 -4.07407E-006 L -0.1375 -4.07407E-006 E">
                                      <p:cBhvr>
                                        <p:cTn id="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277 0 E">
                                      <p:cBhvr>
                                        <p:cTn id="1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277 0 E">
                                      <p:cBhvr>
                                        <p:cTn id="1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277 0 E">
                                      <p:cBhvr>
                                        <p:cTn id="14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277 0 E">
                                      <p:cBhvr>
                                        <p:cTn id="1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277 0 E">
                                      <p:cBhvr>
                                        <p:cTn id="1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277 0 E">
                                      <p:cBhvr>
                                        <p:cTn id="2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CasellaDiTesto 4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I nostri obiettiv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sellaDiTesto 6"/>
          <p:cNvSpPr/>
          <p:nvPr/>
        </p:nvSpPr>
        <p:spPr>
          <a:xfrm>
            <a:off x="1015920" y="150012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f4f24"/>
                </a:solidFill>
                <a:latin typeface="Arial"/>
              </a:rPr>
              <a:t>Perchè comunichia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680" y="2568600"/>
            <a:ext cx="4228920" cy="2575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2855880"/>
            <a:ext cx="3073320" cy="26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favorire l’accesso alle informazion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ccesso ai band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e opportunità offerte dal Progra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2568600"/>
            <a:ext cx="4343400" cy="2752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7480" y="2855880"/>
            <a:ext cx="3073320" cy="27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condividere il senso delle politiche agricole europe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gricoltura è un bene comune e produce effetti positivi per la collettiv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5680" y="2090880"/>
            <a:ext cx="22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mondo agric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17280" y="209556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 cittad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00240" y="5586480"/>
            <a:ext cx="531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e chiari gli obiettivi, adeguare la 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sellaDiTesto 4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Il nostro approc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sellaDiTesto 6"/>
          <p:cNvSpPr/>
          <p:nvPr/>
        </p:nvSpPr>
        <p:spPr>
          <a:xfrm>
            <a:off x="1015920" y="1500120"/>
            <a:ext cx="77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Come comunichiam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al mondo agri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sellaDiTesto 5"/>
          <p:cNvSpPr/>
          <p:nvPr/>
        </p:nvSpPr>
        <p:spPr>
          <a:xfrm>
            <a:off x="942840" y="2556000"/>
            <a:ext cx="7794720" cy="39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4a9400"/>
                </a:solidFill>
                <a:latin typeface="Arial"/>
              </a:rPr>
              <a:t>inform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untuale e cos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4a9400"/>
                </a:solidFill>
                <a:latin typeface="Arial"/>
              </a:rPr>
              <a:t>linguagg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emplice e conc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coltare il </a:t>
            </a:r>
            <a:r>
              <a:rPr b="1" lang="it-IT" sz="2000" spc="-1" strike="noStrike">
                <a:solidFill>
                  <a:srgbClr val="4a9400"/>
                </a:solidFill>
                <a:latin typeface="Arial"/>
              </a:rPr>
              <a:t>feedback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stakehol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ntenere strumenti cartacei ma stimolare </a:t>
            </a:r>
            <a:r>
              <a:rPr b="1" lang="it-IT" sz="2000" spc="-1" strike="noStrike">
                <a:solidFill>
                  <a:srgbClr val="4a9400"/>
                </a:solidFill>
                <a:latin typeface="Arial"/>
              </a:rPr>
              <a:t>l’innov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involgere i beneficiari come </a:t>
            </a:r>
            <a:r>
              <a:rPr b="1" lang="it-IT" sz="2000" spc="-1" strike="noStrike">
                <a:solidFill>
                  <a:srgbClr val="4a9400"/>
                </a:solidFill>
                <a:latin typeface="Arial"/>
              </a:rPr>
              <a:t>protagonis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una strateg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settore agricolo è oggi più differenziato: </a:t>
            </a:r>
            <a:r>
              <a:rPr b="1" lang="it-IT" sz="2400" spc="-1" strike="noStrike">
                <a:solidFill>
                  <a:srgbClr val="4a9400"/>
                </a:solidFill>
                <a:latin typeface="Arial"/>
              </a:rPr>
              <a:t>“</a:t>
            </a:r>
            <a:r>
              <a:rPr b="1" i="1" lang="it-IT" sz="2400" spc="-1" strike="noStrike">
                <a:solidFill>
                  <a:srgbClr val="4a9400"/>
                </a:solidFill>
                <a:latin typeface="Arial"/>
              </a:rPr>
              <a:t>le agricolture</a:t>
            </a:r>
            <a:r>
              <a:rPr b="1" lang="it-IT" sz="2400" spc="-1" strike="noStrike">
                <a:solidFill>
                  <a:srgbClr val="4a9400"/>
                </a:solidFill>
                <a:latin typeface="Arial"/>
              </a:rPr>
              <a:t>”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’identità in evoluzione tra saperi antichi e innov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asellaDiTesto 4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I nostri mezz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sellaDiTesto 6"/>
          <p:cNvSpPr/>
          <p:nvPr/>
        </p:nvSpPr>
        <p:spPr>
          <a:xfrm>
            <a:off x="1015920" y="1500120"/>
            <a:ext cx="77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Cosa comunichiam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al mondo agri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sellaDiTesto 5"/>
          <p:cNvSpPr/>
          <p:nvPr/>
        </p:nvSpPr>
        <p:spPr>
          <a:xfrm>
            <a:off x="942840" y="2543040"/>
            <a:ext cx="779472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4a9400"/>
                </a:solidFill>
                <a:latin typeface="Arial"/>
              </a:rPr>
              <a:t>Rivis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Quaderni Agricoltura (canale storico, 60.000 abbona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4a9400"/>
                </a:solidFill>
                <a:latin typeface="Arial"/>
              </a:rPr>
              <a:t>Newslette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sito </a:t>
            </a:r>
            <a:r>
              <a:rPr b="1" lang="it-IT" sz="2000" spc="-1" strike="noStrike">
                <a:solidFill>
                  <a:srgbClr val="4a9400"/>
                </a:solidFill>
                <a:latin typeface="Arial"/>
              </a:rPr>
              <a:t>web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info complete sui bandi,  pubblicazioni scaricabili, video, infografic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4a9400"/>
                </a:solidFill>
                <a:latin typeface="Arial"/>
              </a:rPr>
              <a:t>Pieghevoli/poste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 tema (il nuovo PSR, l’agroambiente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revi video </a:t>
            </a:r>
            <a:r>
              <a:rPr b="1" lang="it-IT" sz="2000" spc="-1" strike="noStrike">
                <a:solidFill>
                  <a:srgbClr val="4a9400"/>
                </a:solidFill>
                <a:latin typeface="Arial"/>
              </a:rPr>
              <a:t>tutoria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come rispondere ai bandi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ività su </a:t>
            </a:r>
            <a:r>
              <a:rPr b="1" lang="it-IT" sz="2000" spc="-1" strike="noStrike">
                <a:solidFill>
                  <a:srgbClr val="4a9400"/>
                </a:solidFill>
                <a:latin typeface="Arial"/>
              </a:rPr>
              <a:t>biodiversità/suolo/acqu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in collaborazione con enti gestori aree protette e Natura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asellaDiTesto 4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Il nostro approc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sellaDiTesto 6"/>
          <p:cNvSpPr/>
          <p:nvPr/>
        </p:nvSpPr>
        <p:spPr>
          <a:xfrm>
            <a:off x="1015920" y="1500120"/>
            <a:ext cx="77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1f497d"/>
                </a:solidFill>
                <a:latin typeface="Arial"/>
              </a:rPr>
              <a:t>Come comunichiam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1f497d"/>
                </a:solidFill>
                <a:latin typeface="Arial"/>
              </a:rPr>
              <a:t>ai cittad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sellaDiTesto 5"/>
          <p:cNvSpPr/>
          <p:nvPr/>
        </p:nvSpPr>
        <p:spPr>
          <a:xfrm>
            <a:off x="942840" y="2327400"/>
            <a:ext cx="779472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a9400"/>
                </a:solidFill>
                <a:latin typeface="Arial"/>
              </a:rPr>
              <a:t>sensibilità</a:t>
            </a:r>
            <a:r>
              <a:rPr b="0" lang="en-US" sz="2000" spc="-1" strike="noStrike">
                <a:solidFill>
                  <a:srgbClr val="4a94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a9400"/>
                </a:solidFill>
                <a:latin typeface="Arial"/>
              </a:rPr>
              <a:t>cresce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so i temi legati alla terra, qualità,  consumo consapevole &gt; puntare sul target più att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are a target più ampi &gt; </a:t>
            </a:r>
            <a:r>
              <a:rPr b="1" lang="en-US" sz="2000" spc="-1" strike="noStrike">
                <a:solidFill>
                  <a:srgbClr val="4a9400"/>
                </a:solidFill>
                <a:latin typeface="Arial"/>
              </a:rPr>
              <a:t>educazione alimentare, stili di 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a9400"/>
                </a:solidFill>
                <a:latin typeface="Arial"/>
              </a:rPr>
              <a:t>superare gli stereoti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ponendo realtà innov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ità dell’agricol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ocare sulla </a:t>
            </a:r>
            <a:r>
              <a:rPr b="1" lang="en-US" sz="2000" spc="-1" strike="noStrike">
                <a:solidFill>
                  <a:srgbClr val="4a9400"/>
                </a:solidFill>
                <a:latin typeface="Arial"/>
              </a:rPr>
              <a:t>narrazi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sulla </a:t>
            </a:r>
            <a:r>
              <a:rPr b="1" lang="en-US" sz="2000" spc="-1" strike="noStrike">
                <a:solidFill>
                  <a:srgbClr val="4a9400"/>
                </a:solidFill>
                <a:latin typeface="Arial"/>
              </a:rPr>
              <a:t>partecipazi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a a due canali: </a:t>
            </a:r>
            <a:r>
              <a:rPr b="1" lang="en-US" sz="2400" spc="-1" strike="noStrike">
                <a:solidFill>
                  <a:srgbClr val="4a9400"/>
                </a:solidFill>
                <a:latin typeface="Arial"/>
              </a:rPr>
              <a:t>la rete e la presenz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web e gli ev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asellaDiTesto 4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I nostri mezz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6"/>
          <p:cNvSpPr/>
          <p:nvPr/>
        </p:nvSpPr>
        <p:spPr>
          <a:xfrm>
            <a:off x="1015920" y="1500120"/>
            <a:ext cx="77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1f497d"/>
                </a:solidFill>
                <a:latin typeface="Arial"/>
              </a:rPr>
              <a:t>Cosa comunichiam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1f497d"/>
                </a:solidFill>
                <a:latin typeface="Arial"/>
              </a:rPr>
              <a:t>ai cittad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5"/>
          <p:cNvSpPr/>
          <p:nvPr/>
        </p:nvSpPr>
        <p:spPr>
          <a:xfrm>
            <a:off x="942840" y="2543040"/>
            <a:ext cx="779472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getto </a:t>
            </a:r>
            <a:r>
              <a:rPr b="1" lang="it-IT" sz="2000" spc="-1" strike="noStrike">
                <a:solidFill>
                  <a:srgbClr val="4a9400"/>
                </a:solidFill>
                <a:latin typeface="Arial"/>
              </a:rPr>
              <a:t>educazione alimenta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qualità, stagionale, loc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involgendo scuole e fattorie didat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2000" spc="-1" strike="noStrike">
                <a:solidFill>
                  <a:srgbClr val="4a9400"/>
                </a:solidFill>
                <a:latin typeface="Arial"/>
              </a:rPr>
              <a:t>PSR in tou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eventi itineranti basati su animaz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giochi di ruolo per scoprire la realtà dell’agricoltura di og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za in </a:t>
            </a:r>
            <a:r>
              <a:rPr b="1" lang="it-IT" sz="2000" spc="-1" strike="noStrike">
                <a:solidFill>
                  <a:srgbClr val="4a9400"/>
                </a:solidFill>
                <a:latin typeface="Arial"/>
              </a:rPr>
              <a:t>eve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romozionali per parlare al grande pubbl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ccontare le </a:t>
            </a:r>
            <a:r>
              <a:rPr b="1" lang="it-IT" sz="2000" spc="-1" strike="noStrike">
                <a:solidFill>
                  <a:srgbClr val="4a9400"/>
                </a:solidFill>
                <a:latin typeface="Arial"/>
              </a:rPr>
              <a:t>best practic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che cosa può fare davvero il P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CasellaDiTesto 4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I nostri risulta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sellaDiTesto 5"/>
          <p:cNvSpPr/>
          <p:nvPr/>
        </p:nvSpPr>
        <p:spPr>
          <a:xfrm>
            <a:off x="942840" y="2060640"/>
            <a:ext cx="7794720" cy="39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getto con Enti Parco su biodiversità, per agricoltori e cittadini, con riscontro sull’adesione alla misura 2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getto di informazione agli operatori di fattorie didatti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i temi PSR, come “moltiplicatori” di messag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corso fotografico e mostra itinerante “l’agricoltura che cambia” con 1500 partecipanti e una decina di ta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inoltre: 10 pubblicazioni, 4 numeri l’anno di Quaderni Agricoltura, 10 newsletter, 3 serie di video (documentari e social), convegni ed eventi, comunicazione in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6"/>
          <p:cNvSpPr/>
          <p:nvPr/>
        </p:nvSpPr>
        <p:spPr>
          <a:xfrm>
            <a:off x="1015920" y="150012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f4f24"/>
                </a:solidFill>
                <a:latin typeface="Arial"/>
              </a:rPr>
              <a:t>Che cosa abbiamo fatto nel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CasellaDiTesto 4"/>
          <p:cNvSpPr/>
          <p:nvPr/>
        </p:nvSpPr>
        <p:spPr>
          <a:xfrm>
            <a:off x="1438200" y="2571840"/>
            <a:ext cx="639144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piano di comunicazione “al servizio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 Programma e delle sue evolu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Grazie per l’atte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sellaDiTesto 7"/>
          <p:cNvSpPr/>
          <p:nvPr/>
        </p:nvSpPr>
        <p:spPr>
          <a:xfrm>
            <a:off x="1577880" y="4832280"/>
            <a:ext cx="6175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f4f24"/>
                </a:solidFill>
                <a:latin typeface="Arial"/>
              </a:rPr>
              <a:t>valentina.archimede@regione.piemonte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9:19:21Z</dcterms:created>
  <dc:creator>Sara Bigazzi</dc:creator>
  <dc:description/>
  <dc:language>en-US</dc:language>
  <cp:lastModifiedBy>Settore Sistemi Informativi</cp:lastModifiedBy>
  <dcterms:modified xsi:type="dcterms:W3CDTF">2015-11-25T09:47:46Z</dcterms:modified>
  <cp:revision>78</cp:revision>
  <dc:subject/>
  <dc:title>Diapositiva 1</dc:title>
</cp:coreProperties>
</file>