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A43915-FD86-4AAC-8D4F-8E81AD3EF06E}" type="datetime">
              <a:rPr b="0" lang="it-IT" sz="12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E470BB-B04F-48B9-8711-B0F96CC9A49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  <a:ea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AEC030-656B-4AA2-A750-0B366CEA771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  <a:ea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61BD54-187F-4DCB-A061-6E8BD7B2209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  <a:ea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BC0915-3316-49B5-81E5-BFEB2FD6699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  <a:ea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CBBDE8-9F34-4CC2-B738-140C0E937F6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  <a:ea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9A17C3-8561-4BC4-8DAC-CD0377CD336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66520" y="1390680"/>
            <a:ext cx="745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66880" y="2343240"/>
            <a:ext cx="781992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66880" y="4319280"/>
            <a:ext cx="781992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66520" y="1390680"/>
            <a:ext cx="745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66880" y="2343240"/>
            <a:ext cx="381600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4040" y="2343240"/>
            <a:ext cx="381600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66880" y="4319280"/>
            <a:ext cx="381600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74040" y="4319280"/>
            <a:ext cx="381600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66520" y="1390680"/>
            <a:ext cx="745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66880" y="2343240"/>
            <a:ext cx="251784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11080" y="2343240"/>
            <a:ext cx="251784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55280" y="2343240"/>
            <a:ext cx="251784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66880" y="4319280"/>
            <a:ext cx="251784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11080" y="4319280"/>
            <a:ext cx="251784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55280" y="4319280"/>
            <a:ext cx="251784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66520" y="1390680"/>
            <a:ext cx="745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66880" y="2343240"/>
            <a:ext cx="7819920" cy="37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66520" y="1390680"/>
            <a:ext cx="745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66880" y="2343240"/>
            <a:ext cx="7819920" cy="37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66520" y="1390680"/>
            <a:ext cx="745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66880" y="2343240"/>
            <a:ext cx="3816000" cy="37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74040" y="2343240"/>
            <a:ext cx="3816000" cy="37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66520" y="1390680"/>
            <a:ext cx="745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66520" y="1390680"/>
            <a:ext cx="745812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66520" y="1390680"/>
            <a:ext cx="745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66880" y="2343240"/>
            <a:ext cx="381600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4040" y="2343240"/>
            <a:ext cx="3816000" cy="37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66880" y="4319280"/>
            <a:ext cx="381600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66520" y="1390680"/>
            <a:ext cx="745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66880" y="2343240"/>
            <a:ext cx="3816000" cy="37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4040" y="2343240"/>
            <a:ext cx="381600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74040" y="4319280"/>
            <a:ext cx="381600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66520" y="1390680"/>
            <a:ext cx="745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66880" y="2343240"/>
            <a:ext cx="381600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74040" y="2343240"/>
            <a:ext cx="381600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66880" y="4319280"/>
            <a:ext cx="781992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66520" y="1390680"/>
            <a:ext cx="745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66880" y="2343240"/>
            <a:ext cx="7819920" cy="37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6280" y="6374880"/>
            <a:ext cx="2495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008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8000"/>
                </a:solidFill>
                <a:latin typeface="Arial"/>
              </a:rPr>
              <a:t>26 - 27 novembre 201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008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552600" y="6334200"/>
            <a:ext cx="8591400" cy="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logo%20PSR%2020142020" descr=""/>
          <p:cNvPicPr/>
          <p:nvPr/>
        </p:nvPicPr>
        <p:blipFill>
          <a:blip r:embed="rId2"/>
          <a:stretch/>
        </p:blipFill>
        <p:spPr>
          <a:xfrm>
            <a:off x="39600" y="38160"/>
            <a:ext cx="1322640" cy="15937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 flipV="1">
            <a:off x="561960" y="1679400"/>
            <a:ext cx="0" cy="465480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143000" y="741240"/>
            <a:ext cx="8001000" cy="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feasr" descr=""/>
          <p:cNvPicPr/>
          <p:nvPr/>
        </p:nvPicPr>
        <p:blipFill>
          <a:blip r:embed="rId3"/>
          <a:srcRect l="0" t="0" r="0" b="19413"/>
          <a:stretch/>
        </p:blipFill>
        <p:spPr>
          <a:xfrm>
            <a:off x="5845320" y="162000"/>
            <a:ext cx="882360" cy="476280"/>
          </a:xfrm>
          <a:prstGeom prst="rect">
            <a:avLst/>
          </a:prstGeom>
          <a:ln w="0">
            <a:noFill/>
          </a:ln>
        </p:spPr>
      </p:pic>
      <p:pic>
        <p:nvPicPr>
          <p:cNvPr id="9" name="regione_piemonte_bianco" descr=""/>
          <p:cNvPicPr/>
          <p:nvPr/>
        </p:nvPicPr>
        <p:blipFill>
          <a:blip r:embed="rId4"/>
          <a:stretch/>
        </p:blipFill>
        <p:spPr>
          <a:xfrm>
            <a:off x="6762600" y="171360"/>
            <a:ext cx="1257480" cy="401760"/>
          </a:xfrm>
          <a:prstGeom prst="rect">
            <a:avLst/>
          </a:prstGeom>
          <a:ln w="0">
            <a:noFill/>
          </a:ln>
        </p:spPr>
      </p:pic>
      <p:pic>
        <p:nvPicPr>
          <p:cNvPr id="10" name="logo_Mipaaf_PIC" descr=""/>
          <p:cNvPicPr/>
          <p:nvPr/>
        </p:nvPicPr>
        <p:blipFill>
          <a:blip r:embed="rId5"/>
          <a:srcRect l="8022" t="11796" r="17650" b="7622"/>
          <a:stretch/>
        </p:blipFill>
        <p:spPr>
          <a:xfrm>
            <a:off x="8147160" y="117360"/>
            <a:ext cx="666720" cy="511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CasellaDiTesto 4"/>
          <p:cNvSpPr/>
          <p:nvPr/>
        </p:nvSpPr>
        <p:spPr>
          <a:xfrm>
            <a:off x="1438200" y="2571840"/>
            <a:ext cx="639144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500" spc="-1" strike="noStrike">
                <a:solidFill>
                  <a:srgbClr val="008000"/>
                </a:solidFill>
                <a:latin typeface="Arial"/>
                <a:ea typeface="Garamond Premr Pro Smbd"/>
              </a:rPr>
              <a:t>Strumenti finanziari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asellaDiTesto 7"/>
          <p:cNvSpPr/>
          <p:nvPr/>
        </p:nvSpPr>
        <p:spPr>
          <a:xfrm>
            <a:off x="1654200" y="3333600"/>
            <a:ext cx="60134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4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000" spc="-1" strike="noStrike">
                <a:solidFill>
                  <a:srgbClr val="9f4f24"/>
                </a:solidFill>
                <a:latin typeface="Arial"/>
                <a:ea typeface="Garamond Premr Pro Smbd It"/>
              </a:rPr>
              <a:t>Stato di attuazio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asellaDiTesto 7"/>
          <p:cNvSpPr/>
          <p:nvPr/>
        </p:nvSpPr>
        <p:spPr>
          <a:xfrm>
            <a:off x="1257480" y="4581360"/>
            <a:ext cx="6686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4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it-IT" sz="1800" spc="-1" strike="noStrike">
                <a:solidFill>
                  <a:srgbClr val="9f4f24"/>
                </a:solidFill>
                <a:latin typeface="Arial"/>
                <a:ea typeface="Garamond Premr Pro Smbd It"/>
              </a:rPr>
              <a:t>Adriano Favot e Silvia Botta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shop "Agroindustria: Piemonte e Norvegia a confronto”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8-30 MAGGIO 20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CasellaDiTesto 4"/>
          <p:cNvSpPr/>
          <p:nvPr/>
        </p:nvSpPr>
        <p:spPr>
          <a:xfrm>
            <a:off x="1143000" y="1035000"/>
            <a:ext cx="7493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Arial"/>
                <a:ea typeface="Garamond Premr Pro Smbd"/>
              </a:rPr>
              <a:t>Normativa di riferimen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CasellaDiTesto 5"/>
          <p:cNvSpPr/>
          <p:nvPr/>
        </p:nvSpPr>
        <p:spPr>
          <a:xfrm>
            <a:off x="942840" y="2060640"/>
            <a:ext cx="7794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just">
              <a:buClr>
                <a:srgbClr val="769e21"/>
              </a:buClr>
              <a:buFont typeface="Arial"/>
              <a:buChar char="•"/>
              <a:tabLst>
                <a:tab algn="r" pos="1904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Garamond Premr Pro"/>
              </a:rPr>
              <a:t>Regolamento finanziario (UE, EURATOM) n. 966/2012 del Parlamento europeo e del Consigl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tabLst>
                <a:tab algn="l" pos="0"/>
                <a:tab algn="r" pos="1904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buClr>
                <a:srgbClr val="769e21"/>
              </a:buClr>
              <a:buFont typeface="Arial"/>
              <a:buChar char="•"/>
              <a:tabLst>
                <a:tab algn="r" pos="1904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g.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UE) n. 1303/2013 recante disposizioni comuni ai Fondi SIE       (Fondi Strutturali e di Investimento Europe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tabLst>
                <a:tab algn="l" pos="0"/>
                <a:tab algn="r" pos="1904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buClr>
                <a:srgbClr val="769e21"/>
              </a:buClr>
              <a:buFont typeface="Arial"/>
              <a:buChar char="•"/>
              <a:tabLst>
                <a:tab algn="r" pos="1904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g.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UE) n. 1305/2013 sul sostegno allo Sviluppo rurale da parte del FEAS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tabLst>
                <a:tab algn="l" pos="0"/>
                <a:tab algn="r" pos="1904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buClr>
                <a:srgbClr val="769e21"/>
              </a:buClr>
              <a:buFont typeface="Arial"/>
              <a:buChar char="•"/>
              <a:tabLst>
                <a:tab algn="r" pos="1904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inee guida della Commissione Europea 25/04/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tabLst>
                <a:tab algn="l" pos="0"/>
                <a:tab algn="r" pos="1904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buClr>
                <a:srgbClr val="769e21"/>
              </a:buClr>
              <a:buFont typeface="Arial"/>
              <a:buChar char="•"/>
              <a:tabLst>
                <a:tab algn="r" pos="1904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ormativa sugli aiuti di St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tabLst>
                <a:tab algn="l" pos="0"/>
                <a:tab algn="r" pos="1904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tabLst>
                <a:tab algn="l" pos="0"/>
                <a:tab algn="r" pos="1904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shop "Agroindustria: Piemonte e Norvegia a confronto”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8-30 MAGGIO 20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CasellaDiTesto 4"/>
          <p:cNvSpPr/>
          <p:nvPr/>
        </p:nvSpPr>
        <p:spPr>
          <a:xfrm>
            <a:off x="1143000" y="1035000"/>
            <a:ext cx="7493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Arial"/>
                <a:ea typeface="Garamond Premr Pro Smbd"/>
              </a:rPr>
              <a:t>Definizio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CasellaDiTesto 5"/>
          <p:cNvSpPr/>
          <p:nvPr/>
        </p:nvSpPr>
        <p:spPr>
          <a:xfrm>
            <a:off x="942840" y="3660840"/>
            <a:ext cx="7794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Garamond Premr Pro"/>
              </a:rPr>
              <a:t>Per "strumenti finanziari“ si intendono misure di sostegno finanziario dell'Unione che possono assumere la forma di investimenti azionari o quasi-azionari, prestiti o garanzie, o altri strumenti di condivisione del rischio, e possono, se del caso, essere associati a sovvenzion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asellaDiTesto 6"/>
          <p:cNvSpPr/>
          <p:nvPr/>
        </p:nvSpPr>
        <p:spPr>
          <a:xfrm>
            <a:off x="1015920" y="1825560"/>
            <a:ext cx="772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9f4f24"/>
                </a:solidFill>
                <a:latin typeface="Arial"/>
                <a:ea typeface="Garamond Premr Pro Smbd"/>
              </a:rPr>
              <a:t>REGOLAMENTO FINANZIARIO (UE, EURATOM) N. 966/2012 DEL PARLAMENTO EUROPEO E DEL CONSIGLIO del 25 ottobre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shop "Agroindustria: Piemonte e Norvegia a confronto”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8-30 MAGGIO 20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CasellaDiTesto 4"/>
          <p:cNvSpPr/>
          <p:nvPr/>
        </p:nvSpPr>
        <p:spPr>
          <a:xfrm>
            <a:off x="1143000" y="1035000"/>
            <a:ext cx="7493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Arial"/>
                <a:ea typeface="Garamond Premr Pro Smbd"/>
              </a:rPr>
              <a:t>Perché gli strumenti finanziari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CasellaDiTesto 5"/>
          <p:cNvSpPr/>
          <p:nvPr/>
        </p:nvSpPr>
        <p:spPr>
          <a:xfrm>
            <a:off x="942840" y="1832040"/>
            <a:ext cx="7794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 algn="just">
              <a:buClr>
                <a:srgbClr val="4a9400"/>
              </a:buClr>
              <a:buFont typeface="Arial"/>
              <a:buChar char="•"/>
              <a:tabLst>
                <a:tab algn="l" pos="1904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Garamond Premr Pro"/>
              </a:rPr>
              <a:t>Leva finanziaria e maggiore impatto del FEAS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buClr>
                <a:srgbClr val="4a9400"/>
              </a:buClr>
              <a:buFont typeface="Arial"/>
              <a:buChar char="•"/>
              <a:tabLst>
                <a:tab algn="l" pos="1904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buClr>
                <a:srgbClr val="4a9400"/>
              </a:buClr>
              <a:buFont typeface="Arial"/>
              <a:buChar char="•"/>
              <a:tabLst>
                <a:tab algn="l" pos="1904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Garamond Premr Pro"/>
              </a:rPr>
              <a:t>Maggiore efficienza ed efficacia grazie alla natura rotativa dei fond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buClr>
                <a:srgbClr val="4a9400"/>
              </a:buClr>
              <a:buFont typeface="Arial"/>
              <a:buChar char="•"/>
              <a:tabLst>
                <a:tab algn="l" pos="1904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buClr>
                <a:srgbClr val="4a9400"/>
              </a:buClr>
              <a:buFont typeface="Arial"/>
              <a:buChar char="•"/>
              <a:tabLst>
                <a:tab algn="l" pos="1904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Garamond Premr Pro"/>
              </a:rPr>
              <a:t>Migliore qualità dei progetti in quanto l'investimento deve essere rimborsat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buClr>
                <a:srgbClr val="4a9400"/>
              </a:buClr>
              <a:buFont typeface="Arial"/>
              <a:buChar char="•"/>
              <a:tabLst>
                <a:tab algn="l" pos="1904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buClr>
                <a:srgbClr val="4a9400"/>
              </a:buClr>
              <a:buFont typeface="Arial"/>
              <a:buChar char="•"/>
              <a:tabLst>
                <a:tab algn="l" pos="1904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Garamond Premr Pro"/>
              </a:rPr>
              <a:t>Accesso ad un ampio spettro di SF per l'attuazione delle politich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tabLst>
                <a:tab algn="l" pos="0"/>
                <a:tab algn="l" pos="1904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Garamond Premr Pr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buClr>
                <a:srgbClr val="4a9400"/>
              </a:buClr>
              <a:buFont typeface="Arial"/>
              <a:buChar char="•"/>
              <a:tabLst>
                <a:tab algn="l" pos="1904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Garamond Premr Pro"/>
              </a:rPr>
              <a:t>Affrancamento dalla cultura della “dipendenza dalle sovvenzioni”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buClr>
                <a:srgbClr val="4a9400"/>
              </a:buClr>
              <a:buFont typeface="Arial"/>
              <a:buChar char="•"/>
              <a:tabLst>
                <a:tab algn="l" pos="1904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buClr>
                <a:srgbClr val="4a9400"/>
              </a:buClr>
              <a:buFont typeface="Arial"/>
              <a:buChar char="•"/>
              <a:tabLst>
                <a:tab algn="l" pos="1904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Garamond Premr Pro"/>
              </a:rPr>
              <a:t>Attrazione del sostegno (e del finanziamento) del settore privato con condivisione delle competenz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shop "Agroindustria: Piemonte e Norvegia a confronto”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8-30 MAGGIO 20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CasellaDiTesto 4"/>
          <p:cNvSpPr/>
          <p:nvPr/>
        </p:nvSpPr>
        <p:spPr>
          <a:xfrm>
            <a:off x="1143000" y="1035000"/>
            <a:ext cx="7493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Arial"/>
                <a:ea typeface="Garamond Premr Pro Smbd"/>
              </a:rPr>
              <a:t>Il PSR della Regione Piemon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CasellaDiTesto 5"/>
          <p:cNvSpPr/>
          <p:nvPr/>
        </p:nvSpPr>
        <p:spPr>
          <a:xfrm>
            <a:off x="942840" y="1832040"/>
            <a:ext cx="7794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Garamond Premr Pro"/>
              </a:rPr>
              <a:t>“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Garamond Premr Pro"/>
              </a:rPr>
              <a:t>Nell’ambito del Programma possono essere previsti strumenti finanziari per facilitare l’accesso al credito, subordinatamente allo svolgimento della valutazione ex ante, così come disciplinato dagli artt.37-38 del regolamento (UE) n. 1303/201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Garamond Premr Pro"/>
              </a:rPr>
              <a:t>Verrà presa in considerazione l’istituzione di fondi di garanzia e/o 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Garamond Premr Pro"/>
              </a:rPr>
              <a:t>fondi di rotazione per favorire e facilitare la realizzazione degli investimenti. La necessità, emersa sia in sede di confronto con il partenariato sia dall’analisi di contesto del Programma, è evidenziata nel fabbisogno n. 20 “Favorire l’accesso al credito da parte delle imprese”. Ai sensi dell'articolo 37, par. 11 del regolamento (UE) n. 1303/2013, qualora gli strumenti finanziari siano combinati con sovvenzioni a norma dei paragrafi 7 e 8 del medesimo articolo, alla sovvenzione si applica l'art. 69, par. 3 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Garamond Premr Pro"/>
              </a:rPr>
              <a:t>regolamento (UE) n. 1303/2013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shop "Agroindustria: Piemonte e Norvegia a confronto”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8-30 MAGGIO 20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CasellaDiTesto 4"/>
          <p:cNvSpPr/>
          <p:nvPr/>
        </p:nvSpPr>
        <p:spPr>
          <a:xfrm>
            <a:off x="1143000" y="1035000"/>
            <a:ext cx="7493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Arial"/>
                <a:ea typeface="Garamond Premr Pro Smbd"/>
              </a:rPr>
              <a:t>CRONOPROGRAM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CasellaDiTesto 5"/>
          <p:cNvSpPr/>
          <p:nvPr/>
        </p:nvSpPr>
        <p:spPr>
          <a:xfrm>
            <a:off x="942840" y="1698480"/>
            <a:ext cx="7794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just">
              <a:buClr>
                <a:srgbClr val="4a9400"/>
              </a:buClr>
              <a:buFont typeface="Arial"/>
              <a:buChar char="•"/>
              <a:tabLst>
                <a:tab algn="l" pos="1904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Garamond Premr Pro"/>
              </a:rPr>
              <a:t>valutazione ex-ante (VEXA) degli strumenti finanziari (in corso di predisposizione)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Garamond Premr Pro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Garamond Premr Pro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Garamond Premr Pro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Garamond Premr Pro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Garamond Premr Pro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Garamond Premr Pro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Garamond Premr Pro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Garamond Premr Pro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Garamond Premr Pro"/>
              </a:rPr>
              <a:t>      </a:t>
            </a:r>
            <a:r>
              <a:rPr b="0" lang="it-IT" sz="2000" spc="-1" strike="noStrike">
                <a:solidFill>
                  <a:srgbClr val="769e21"/>
                </a:solidFill>
                <a:latin typeface="Arial"/>
                <a:ea typeface="Garamond Premr Pro Smbd"/>
              </a:rPr>
              <a:t>dicembre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tabLst>
                <a:tab algn="l" pos="0"/>
                <a:tab algn="l" pos="1904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buClr>
                <a:srgbClr val="4a9400"/>
              </a:buClr>
              <a:buFont typeface="Arial"/>
              <a:buChar char="•"/>
              <a:tabLst>
                <a:tab algn="l" pos="1904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Garamond Premr Pro"/>
              </a:rPr>
              <a:t>presentazione al comitato di sorveglianza della VEXA a scopo informativo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Garamond Premr Pro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Garamond Premr Pro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Garamond Premr Pro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Garamond Premr Pro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Garamond Premr Pro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Garamond Premr Pro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Garamond Premr Pro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Garamond Premr Pro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Garamond Premr Pro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Garamond Premr Pro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Garamond Premr Pro"/>
              </a:rPr>
              <a:t> </a:t>
            </a:r>
            <a:r>
              <a:rPr b="0" lang="it-IT" sz="2000" spc="-1" strike="noStrike">
                <a:solidFill>
                  <a:srgbClr val="769e21"/>
                </a:solidFill>
                <a:latin typeface="Arial"/>
                <a:ea typeface="Garamond Premr Pro Smbd"/>
              </a:rPr>
              <a:t>gennaio 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tabLst>
                <a:tab algn="l" pos="0"/>
                <a:tab algn="l" pos="1904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buClr>
                <a:srgbClr val="4a9400"/>
              </a:buClr>
              <a:buFont typeface="Arial"/>
              <a:buChar char="•"/>
              <a:tabLst>
                <a:tab algn="l" pos="1904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Garamond Premr Pro"/>
              </a:rPr>
              <a:t>consultazione Arpea per definire le modalità di trasferimento dei fondi al gestore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Garamond Premr Pro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Garamond Premr Pro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Garamond Premr Pro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Garamond Premr Pro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Garamond Premr Pro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Garamond Premr Pro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Garamond Premr Pro"/>
              </a:rPr>
              <a:t>	</a:t>
            </a:r>
            <a:r>
              <a:rPr b="0" lang="it-IT" sz="2000" spc="-1" strike="noStrike">
                <a:solidFill>
                  <a:srgbClr val="769e21"/>
                </a:solidFill>
                <a:latin typeface="Arial"/>
                <a:ea typeface="Garamond Premr Pro Smbd"/>
              </a:rPr>
              <a:t>gennaio-febbraio 2016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Garamond Premr Pr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tabLst>
                <a:tab algn="l" pos="0"/>
                <a:tab algn="l" pos="1904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buClr>
                <a:srgbClr val="4a9400"/>
              </a:buClr>
              <a:buFont typeface="Arial"/>
              <a:buChar char="•"/>
              <a:tabLst>
                <a:tab algn="l" pos="1904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Garamond Premr Pro"/>
              </a:rPr>
              <a:t>definizione con il gestore dell’accordo di finanzi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tabLst>
                <a:tab algn="l" pos="0"/>
                <a:tab algn="l" pos="1904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Garamond Premr Pro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Garamond Premr Pro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Garamond Premr Pro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Garamond Premr Pro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Garamond Premr Pro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Garamond Premr Pro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Garamond Premr Pro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Garamond Premr Pro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Garamond Premr Pro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Garamond Premr Pro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Garamond Premr Pro"/>
              </a:rPr>
              <a:t>             </a:t>
            </a:r>
            <a:r>
              <a:rPr b="0" lang="it-IT" sz="2000" spc="-1" strike="noStrike">
                <a:solidFill>
                  <a:srgbClr val="769e21"/>
                </a:solidFill>
                <a:latin typeface="Arial"/>
                <a:ea typeface="Garamond Premr Pro Smbd"/>
              </a:rPr>
              <a:t>gennaio-febbraio 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buClr>
                <a:srgbClr val="4a9400"/>
              </a:buClr>
              <a:buFont typeface="Arial"/>
              <a:buChar char="•"/>
              <a:tabLst>
                <a:tab algn="l" pos="1904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Garamond Premr Pro"/>
              </a:rPr>
              <a:t>proposta di modifica del PSR, parte generale e misure interessate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Garamond Premr Pro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Garamond Premr Pro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Garamond Premr Pro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Garamond Premr Pro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Garamond Premr Pro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Garamond Premr Pro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Garamond Premr Pro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Garamond Premr Pro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Garamond Premr Pro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Garamond Premr Pro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Garamond Premr Pro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Garamond Premr Pro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Garamond Premr Pro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Garamond Premr Pro"/>
              </a:rPr>
              <a:t>  </a:t>
            </a:r>
            <a:r>
              <a:rPr b="0" lang="it-IT" sz="2000" spc="-1" strike="noStrike">
                <a:solidFill>
                  <a:srgbClr val="769e21"/>
                </a:solidFill>
                <a:latin typeface="Arial"/>
                <a:ea typeface="Garamond Premr Pro Smbd"/>
              </a:rPr>
              <a:t>maggio 2016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Garamond Premr Pr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buClr>
                <a:srgbClr val="4a9400"/>
              </a:buClr>
              <a:buFont typeface="Arial"/>
              <a:buChar char="•"/>
              <a:tabLst>
                <a:tab algn="l" pos="1904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Garamond Premr Pro"/>
              </a:rPr>
              <a:t>approvazione modifica PSR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Garamond Premr Pro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Garamond Premr Pro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Garamond Premr Pro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Garamond Premr Pro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Garamond Premr Pro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Garamond Premr Pro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Garamond Premr Pro"/>
              </a:rPr>
              <a:t>   .</a:t>
            </a:r>
            <a:r>
              <a:rPr b="0" lang="it-IT" sz="2000" spc="-1" strike="noStrike">
                <a:solidFill>
                  <a:srgbClr val="769e21"/>
                </a:solidFill>
                <a:latin typeface="Arial"/>
                <a:ea typeface="Garamond Premr Pro Smbd"/>
              </a:rPr>
              <a:t>………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shop "Agroindustria: Piemonte e Norvegia a confronto”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8-30 MAGGIO 20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CasellaDiTesto 4"/>
          <p:cNvSpPr/>
          <p:nvPr/>
        </p:nvSpPr>
        <p:spPr>
          <a:xfrm>
            <a:off x="1438200" y="3333600"/>
            <a:ext cx="639144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500" spc="-1" strike="noStrike">
                <a:solidFill>
                  <a:srgbClr val="008000"/>
                </a:solidFill>
                <a:latin typeface="Arial"/>
                <a:ea typeface="Garamond Premr Pro Smbd"/>
              </a:rPr>
              <a:t>GRAZIE PER L’ATTENZION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shop "Agroindustria: Piemonte e Norvegia a confronto”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8-30 MAGGIO 20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7T09:19:21Z</dcterms:created>
  <dc:creator>Sara Bigazzi</dc:creator>
  <dc:description/>
  <dc:language>en-US</dc:language>
  <cp:lastModifiedBy>Settore Sistemi Informativi</cp:lastModifiedBy>
  <dcterms:modified xsi:type="dcterms:W3CDTF">2015-11-24T09:34:27Z</dcterms:modified>
  <cp:revision>89</cp:revision>
  <dc:subject/>
  <dc:title>Diapositiva 1</dc:title>
</cp:coreProperties>
</file>